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845964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2720" y="3939840"/>
            <a:ext cx="845964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2720" y="393984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7480" y="393984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02920" y="172692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63480" y="172692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2720" y="393984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02920" y="393984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63480" y="393984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42720" y="1726920"/>
            <a:ext cx="845964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845964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42720" y="280800"/>
            <a:ext cx="845964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42720" y="393984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2720" y="1726920"/>
            <a:ext cx="845964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7480" y="393984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42720" y="3939840"/>
            <a:ext cx="845964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845964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42720" y="3939840"/>
            <a:ext cx="845964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42720" y="393984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7480" y="393984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02920" y="172692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63480" y="172692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42720" y="393984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02920" y="393984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63480" y="393984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845964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42720" y="280800"/>
            <a:ext cx="845964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2720" y="393984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7480" y="393984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2720" y="3939840"/>
            <a:ext cx="845964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Click to edit the title text format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1726920"/>
            <a:ext cx="845964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Click to edit the outline text format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1" marL="315360" indent="-31536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 Pitch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Second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2" marL="315360" indent="-31536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Third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3" marL="315360" indent="-31536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Fourth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4" marL="315360" indent="-31536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Fifth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5" marL="315360" indent="-315360">
              <a:lnSpc>
                <a:spcPct val="90000"/>
              </a:lnSpc>
              <a:spcBef>
                <a:spcPts val="2001"/>
              </a:spcBef>
              <a:buClr>
                <a:srgbClr val="1e4191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Sixth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6" marL="315360" indent="-315360">
              <a:lnSpc>
                <a:spcPct val="90000"/>
              </a:lnSpc>
              <a:spcBef>
                <a:spcPts val="2001"/>
              </a:spcBef>
              <a:buClr>
                <a:srgbClr val="1e4191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Seventh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pic>
        <p:nvPicPr>
          <p:cNvPr id="2" name="Picture 14" descr=""/>
          <p:cNvPicPr/>
          <p:nvPr/>
        </p:nvPicPr>
        <p:blipFill>
          <a:blip r:embed="rId2"/>
          <a:stretch/>
        </p:blipFill>
        <p:spPr>
          <a:xfrm>
            <a:off x="318960" y="6083280"/>
            <a:ext cx="1600200" cy="503280"/>
          </a:xfrm>
          <a:prstGeom prst="rect">
            <a:avLst/>
          </a:prstGeom>
          <a:ln w="0">
            <a:noFill/>
          </a:ln>
        </p:spPr>
      </p:pic>
      <p:sp>
        <p:nvSpPr>
          <p:cNvPr id="3" name="Text Box 18"/>
          <p:cNvSpPr/>
          <p:nvPr/>
        </p:nvSpPr>
        <p:spPr>
          <a:xfrm>
            <a:off x="6442200" y="6229440"/>
            <a:ext cx="245556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48D86-A427-49F4-807C-F151B0AD060D}" type="slidenum">
              <a:rPr b="0" lang="en-US" sz="900" spc="-1" strike="noStrike">
                <a:solidFill>
                  <a:srgbClr val="1e4191"/>
                </a:solidFill>
                <a:latin typeface="GE Inspira Pitch"/>
              </a:rPr>
              <a:t>&lt;number&gt;</a:t>
            </a:fld>
            <a:endParaRPr b="0" lang="en-US" sz="900" spc="-1" strike="noStrike">
              <a:solidFill>
                <a:srgbClr val="1e4191"/>
              </a:solidFill>
              <a:latin typeface="GE Inspira Pitch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e4191"/>
                </a:solidFill>
                <a:latin typeface="GE Inspira Pitch"/>
              </a:rPr>
              <a:t> </a:t>
            </a:r>
            <a:r>
              <a:rPr b="0" lang="en-US" sz="900" spc="-1" strike="noStrike">
                <a:solidFill>
                  <a:srgbClr val="1e4191"/>
                </a:solidFill>
                <a:latin typeface="GE Inspira Pitch"/>
              </a:rPr>
              <a:t>Presenter and Event</a:t>
            </a:r>
            <a:endParaRPr b="0" lang="en-US" sz="900" spc="-1" strike="noStrike">
              <a:solidFill>
                <a:srgbClr val="1e4191"/>
              </a:solidFill>
              <a:latin typeface="GE Inspira Pitch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6591E-4BF3-46FC-9E41-590381276634}" type="datetime">
              <a:rPr b="0" lang="en-US" sz="900" spc="-1" strike="noStrike">
                <a:solidFill>
                  <a:srgbClr val="1e4191"/>
                </a:solidFill>
                <a:latin typeface="GE Inspira Pitch"/>
              </a:rPr>
              <a:t>07/30/26</a:t>
            </a:fld>
            <a:endParaRPr b="0" lang="en-US" sz="9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1" descr=""/>
          <p:cNvPicPr/>
          <p:nvPr/>
        </p:nvPicPr>
        <p:blipFill>
          <a:blip r:embed="rId2"/>
          <a:stretch/>
        </p:blipFill>
        <p:spPr>
          <a:xfrm>
            <a:off x="272880" y="5803920"/>
            <a:ext cx="2486160" cy="7812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Click to edit the title text format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42720" y="1726920"/>
            <a:ext cx="845964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Click to edit the outline text format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1" marL="315360" indent="-31536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 Pitch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Second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2" marL="315360" indent="-31536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Third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3" marL="315360" indent="-31536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Fourth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4" marL="315360" indent="-31536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Fifth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5" marL="315360" indent="-315360">
              <a:lnSpc>
                <a:spcPct val="90000"/>
              </a:lnSpc>
              <a:spcBef>
                <a:spcPts val="2001"/>
              </a:spcBef>
              <a:buClr>
                <a:srgbClr val="1e4191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Sixth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6" marL="315360" indent="-315360">
              <a:lnSpc>
                <a:spcPct val="90000"/>
              </a:lnSpc>
              <a:spcBef>
                <a:spcPts val="2001"/>
              </a:spcBef>
              <a:buClr>
                <a:srgbClr val="1e4191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Seventh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77640" y="2976480"/>
            <a:ext cx="845964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Core Viewer </a:t>
            </a:r>
            <a:br>
              <a:rPr sz="4000"/>
            </a:b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Annotation Definition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1"/>
          <p:cNvGrpSpPr/>
          <p:nvPr/>
        </p:nvGrpSpPr>
        <p:grpSpPr>
          <a:xfrm>
            <a:off x="25560" y="382680"/>
            <a:ext cx="9118440" cy="6218280"/>
            <a:chOff x="25560" y="382680"/>
            <a:chExt cx="9118440" cy="6218280"/>
          </a:xfrm>
        </p:grpSpPr>
        <p:sp>
          <p:nvSpPr>
            <p:cNvPr id="123" name="Rectangle 4"/>
            <p:cNvSpPr/>
            <p:nvPr/>
          </p:nvSpPr>
          <p:spPr>
            <a:xfrm>
              <a:off x="111240" y="442800"/>
              <a:ext cx="5029200" cy="323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0 – Amanufacturer + AModelName + AStation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ystem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 - AEx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– ASe + Contas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AIm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4 - APlan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5 – AHeartR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6 - AT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– AMENCFactor + ACPhas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8 – Aflow + Abvalu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9 – AprepPuls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10 – ABolusChasing + EchoTrn + Ainterleaves + AViewPerSeg + ARapidFrame + Athreshold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1 – AProjectionAngles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24" name="Rectangle 5"/>
            <p:cNvSpPr/>
            <p:nvPr/>
          </p:nvSpPr>
          <p:spPr>
            <a:xfrm>
              <a:off x="5140440" y="442800"/>
              <a:ext cx="3752640" cy="323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– AHosp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AccessionNumber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Accession_Number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– AShortPatient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Nam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– ASex + AAge + AShortPat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Id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– ABirth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ate_Of_Birth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- AAcq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6 – AAcqTi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Ti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7 - AzoomFactor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8 – AcurrentFL (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9 – AcurrentROT (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0 – AviewFilterTyp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1 – ArepPixR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2 – ArepPixA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3 – ArepPixS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4 – ArepPixV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5 – AMT8 (geometry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6 – AVL1 (Graphic_Results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7 – AVL2 (Graphic_Results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8 – AVL3 (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9 - AVL4 (Graphic_Results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25" name="Rectangle 6"/>
            <p:cNvSpPr/>
            <p:nvPr/>
          </p:nvSpPr>
          <p:spPr>
            <a:xfrm>
              <a:off x="111240" y="3678120"/>
              <a:ext cx="5029200" cy="2921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0 – APsdAnnot + ASequenceName + ASequenceVariant + AScanSequence + AFlipAngl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9 - ATr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8 – AT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– AEchoNum + Abandwidth + ARcvrTyp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– AInvTi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– ACType 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+ AFiltering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- AFOV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– AThk + ASpacing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Thick_Spac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– AScanLocation +AScantime + APausetime +  ANum3Dslabs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– AAcquisitionMatrix + ANumAverag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– ASeSpecAcq + AScanOptions + ASeDesc + ARampedDirection  +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Tagging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26" name="Rectangle 7"/>
            <p:cNvSpPr/>
            <p:nvPr/>
          </p:nvSpPr>
          <p:spPr>
            <a:xfrm>
              <a:off x="5140440" y="3678120"/>
              <a:ext cx="3752640" cy="2921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7 – ARTTimer (Patient_Id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AtiltAverag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– AMagTranOffse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ARoiResult1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3 - ARoiResult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2 - ARoiResult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– AFreqDir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0 – AWindowWidth + AWindowLevel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Windowing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27" name="Text Box 8"/>
            <p:cNvSpPr/>
            <p:nvPr/>
          </p:nvSpPr>
          <p:spPr>
            <a:xfrm>
              <a:off x="4459320" y="6354720"/>
              <a:ext cx="18176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S 0 - ArasS (Bottom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28" name="Text Box 9"/>
            <p:cNvSpPr/>
            <p:nvPr/>
          </p:nvSpPr>
          <p:spPr>
            <a:xfrm>
              <a:off x="4442040" y="382680"/>
              <a:ext cx="16840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N 0 - ArasN (Top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29" name="Text Box 10"/>
            <p:cNvSpPr/>
            <p:nvPr/>
          </p:nvSpPr>
          <p:spPr>
            <a:xfrm>
              <a:off x="7423200" y="3556080"/>
              <a:ext cx="17208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E 0 - ArasE (Righ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30" name="Text Box 11"/>
            <p:cNvSpPr/>
            <p:nvPr/>
          </p:nvSpPr>
          <p:spPr>
            <a:xfrm>
              <a:off x="25560" y="3540240"/>
              <a:ext cx="17096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W 0 - ArasW (Lef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131" name="Text Box 13"/>
          <p:cNvSpPr/>
          <p:nvPr/>
        </p:nvSpPr>
        <p:spPr>
          <a:xfrm>
            <a:off x="222120" y="11160"/>
            <a:ext cx="87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CVF 2D MR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68200" y="0"/>
            <a:ext cx="84600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MR 2D Annotation Group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976320" y="581040"/>
          <a:ext cx="3303720" cy="4995720"/>
        </p:xfrm>
        <a:graphic>
          <a:graphicData uri="http://schemas.openxmlformats.org/drawingml/2006/table">
            <a:tbl>
              <a:tblPr/>
              <a:tblGrid>
                <a:gridCol w="1670040"/>
                <a:gridCol w="422280"/>
                <a:gridCol w="411120"/>
                <a:gridCol w="399960"/>
                <a:gridCol w="400320"/>
              </a:tblGrid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F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P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N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Hospital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Id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ESI_Information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ystem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Dat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ate_Of_Birth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eometry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4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Top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Bottom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Lef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igh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Ti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Thick_Spac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Windowing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eport_Curso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raphic_Result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bottom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0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ccession_Numb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</a:tbl>
          </a:graphicData>
        </a:graphic>
      </p:graphicFrame>
      <p:sp>
        <p:nvSpPr>
          <p:cNvPr id="134" name="TextBox 3"/>
          <p:cNvSpPr/>
          <p:nvPr/>
        </p:nvSpPr>
        <p:spPr>
          <a:xfrm>
            <a:off x="2729520" y="636264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F: Full, P:Partial, N:None, S:Small Viewport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1"/>
          <p:cNvGrpSpPr/>
          <p:nvPr/>
        </p:nvGrpSpPr>
        <p:grpSpPr>
          <a:xfrm>
            <a:off x="25560" y="382680"/>
            <a:ext cx="9118440" cy="5762520"/>
            <a:chOff x="25560" y="382680"/>
            <a:chExt cx="9118440" cy="5762520"/>
          </a:xfrm>
        </p:grpSpPr>
        <p:sp>
          <p:nvSpPr>
            <p:cNvPr id="136" name="Rectangle 4"/>
            <p:cNvSpPr/>
            <p:nvPr/>
          </p:nvSpPr>
          <p:spPr>
            <a:xfrm>
              <a:off x="111240" y="442800"/>
              <a:ext cx="502920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0 – AManufacturer + AModelName + AStation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ystem_Name)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 - AEx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– ASe + Contas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AAnatomicalRef + ASliceLocation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4 - AIm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5 –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6 - AfovVal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isplay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– AConvolutionKernel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isplay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8 – AHeartRat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9 – ASpecialReconAlgorithm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10 – ArepPixR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1 – ArepPixA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2 – ArepPixS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3 – ArepPixV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37" name="Rectangle 5"/>
            <p:cNvSpPr/>
            <p:nvPr/>
          </p:nvSpPr>
          <p:spPr>
            <a:xfrm>
              <a:off x="5140440" y="442800"/>
              <a:ext cx="375264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– AHosp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AccessionNumber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Accession_Number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– AShortPatient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Nam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– ASex + AAge + AShortPat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Id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– ABirth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ate_Of_Birth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- AAcq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6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ImageHeight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isplay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7 -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AEkgGatingType  + cardiacRecon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8 – AzoomFactor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9 – AcurrentFL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0 – AcurrentROT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1 – AviewFilterType (Filter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38" name="Rectangle 6"/>
            <p:cNvSpPr/>
            <p:nvPr/>
          </p:nvSpPr>
          <p:spPr>
            <a:xfrm>
              <a:off x="111240" y="3164040"/>
              <a:ext cx="5029200" cy="296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8 – AMaterialTyp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– AKvolt 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– ACurren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– ASmartMamp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– ASFOV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– ASlThick + APitch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– AGanTil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– AScanOptions (Scan_Ti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– AWindowWidth + AWindowLevel (Windowing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39" name="Rectangle 7"/>
            <p:cNvSpPr/>
            <p:nvPr/>
          </p:nvSpPr>
          <p:spPr>
            <a:xfrm>
              <a:off x="5140440" y="3164040"/>
              <a:ext cx="3752640" cy="296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ARoiResult1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– ARoiResult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ARoiResult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3 - ARoiResult96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2 - ARoiResult97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– ARoiResult98 (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0 – ARoiResult99 (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40" name="Text Box 8"/>
            <p:cNvSpPr/>
            <p:nvPr/>
          </p:nvSpPr>
          <p:spPr>
            <a:xfrm>
              <a:off x="3865680" y="5289840"/>
              <a:ext cx="2260440" cy="85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S -3 - ASub_Optimall_Q_String or imageCheck_flag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S 0 - ArasS (Bottom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41" name="Text Box 9"/>
            <p:cNvSpPr/>
            <p:nvPr/>
          </p:nvSpPr>
          <p:spPr>
            <a:xfrm>
              <a:off x="4442040" y="382680"/>
              <a:ext cx="16840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N 0 - ArasN (Top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42" name="Text Box 10"/>
            <p:cNvSpPr/>
            <p:nvPr/>
          </p:nvSpPr>
          <p:spPr>
            <a:xfrm>
              <a:off x="7423200" y="3036960"/>
              <a:ext cx="17208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E 0 - ArasE (Righ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43" name="Text Box 11"/>
            <p:cNvSpPr/>
            <p:nvPr/>
          </p:nvSpPr>
          <p:spPr>
            <a:xfrm>
              <a:off x="25560" y="3021120"/>
              <a:ext cx="17096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W 0 - ArasW (Lef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144" name="Text Box 13"/>
          <p:cNvSpPr/>
          <p:nvPr/>
        </p:nvSpPr>
        <p:spPr>
          <a:xfrm>
            <a:off x="222120" y="11160"/>
            <a:ext cx="87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CVF 2D CT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68200" y="0"/>
            <a:ext cx="84600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CT 2D Annotation Group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976320" y="581040"/>
          <a:ext cx="3303720" cy="4995720"/>
        </p:xfrm>
        <a:graphic>
          <a:graphicData uri="http://schemas.openxmlformats.org/drawingml/2006/table">
            <a:tbl>
              <a:tblPr/>
              <a:tblGrid>
                <a:gridCol w="1670040"/>
                <a:gridCol w="422280"/>
                <a:gridCol w="411120"/>
                <a:gridCol w="399960"/>
                <a:gridCol w="400320"/>
              </a:tblGrid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F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P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N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Hospital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Id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ESI_Information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ystem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Dat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ate_Of_Birth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View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4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Top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Bottom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Lef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igh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Ti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isplay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Windowing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eport_Curso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raphic_Result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Filt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0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ccession_Numb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</a:tbl>
          </a:graphicData>
        </a:graphic>
      </p:graphicFrame>
      <p:sp>
        <p:nvSpPr>
          <p:cNvPr id="147" name="TextBox 3"/>
          <p:cNvSpPr/>
          <p:nvPr/>
        </p:nvSpPr>
        <p:spPr>
          <a:xfrm>
            <a:off x="2729520" y="636264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F: Full, P:Partial, N:None, S:Small Viewport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Group 1"/>
          <p:cNvGrpSpPr/>
          <p:nvPr/>
        </p:nvGrpSpPr>
        <p:grpSpPr>
          <a:xfrm>
            <a:off x="25560" y="382680"/>
            <a:ext cx="9118440" cy="5747040"/>
            <a:chOff x="25560" y="382680"/>
            <a:chExt cx="9118440" cy="5747040"/>
          </a:xfrm>
        </p:grpSpPr>
        <p:sp>
          <p:nvSpPr>
            <p:cNvPr id="149" name="Rectangle 4"/>
            <p:cNvSpPr/>
            <p:nvPr/>
          </p:nvSpPr>
          <p:spPr>
            <a:xfrm>
              <a:off x="111240" y="442800"/>
              <a:ext cx="502920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0 – AManufacturer +  AStation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ystem_Name)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 - AEx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– ASe + Contas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AIm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8 – AHeartRat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10 – ArepPixR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1 – ArepPixA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2 – ArepPixS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3 – ArepPixV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50" name="Rectangle 5"/>
            <p:cNvSpPr/>
            <p:nvPr/>
          </p:nvSpPr>
          <p:spPr>
            <a:xfrm>
              <a:off x="5140440" y="442800"/>
              <a:ext cx="375264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– AHosp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AccessionNumber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Accession_Number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– APatientName(Patient_Name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– ASex + AAge + AShortPat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Id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– ABirth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ate_Of_Birth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- AAcq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6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AImageDims(Display_Parameters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8 – AzoomFactor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9 – AcurrentFL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0 – AcurrentROT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1 – AviewFilterType (Scan_Parameters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51" name="Rectangle 6"/>
            <p:cNvSpPr/>
            <p:nvPr/>
          </p:nvSpPr>
          <p:spPr>
            <a:xfrm>
              <a:off x="111240" y="3164040"/>
              <a:ext cx="5029200" cy="296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– AKvolt 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– ACurren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azimuth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AcqDateTim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Scan_Ti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– AWindowWidth + AWindowLevel (Windowing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52" name="Rectangle 7"/>
            <p:cNvSpPr/>
            <p:nvPr/>
          </p:nvSpPr>
          <p:spPr>
            <a:xfrm>
              <a:off x="5140440" y="3164040"/>
              <a:ext cx="3752640" cy="296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ARoiResult1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– ARoiResult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ARoiResult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3 - ARoiResult96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2 - ARoiResult97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– ARoiResult98 (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0 – ARoiResult99 (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53" name="Text Box 8"/>
            <p:cNvSpPr/>
            <p:nvPr/>
          </p:nvSpPr>
          <p:spPr>
            <a:xfrm>
              <a:off x="3865680" y="5883480"/>
              <a:ext cx="22604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S 0 - ArasS (Bottom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54" name="Text Box 9"/>
            <p:cNvSpPr/>
            <p:nvPr/>
          </p:nvSpPr>
          <p:spPr>
            <a:xfrm>
              <a:off x="4442040" y="382680"/>
              <a:ext cx="16840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N 0 - ArasN (Top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55" name="Text Box 10"/>
            <p:cNvSpPr/>
            <p:nvPr/>
          </p:nvSpPr>
          <p:spPr>
            <a:xfrm>
              <a:off x="7423200" y="3036960"/>
              <a:ext cx="17208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E 0 - ArasE (Righ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56" name="Text Box 11"/>
            <p:cNvSpPr/>
            <p:nvPr/>
          </p:nvSpPr>
          <p:spPr>
            <a:xfrm>
              <a:off x="25560" y="3021120"/>
              <a:ext cx="17096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W 0 - ArasW (Lef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157" name="Text Box 13"/>
          <p:cNvSpPr/>
          <p:nvPr/>
        </p:nvSpPr>
        <p:spPr>
          <a:xfrm>
            <a:off x="222120" y="11160"/>
            <a:ext cx="87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CVF 2D CT Scout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68200" y="0"/>
            <a:ext cx="84600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CT Scout 2D Annotation Group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976320" y="581040"/>
          <a:ext cx="3303720" cy="4518000"/>
        </p:xfrm>
        <a:graphic>
          <a:graphicData uri="http://schemas.openxmlformats.org/drawingml/2006/table">
            <a:tbl>
              <a:tblPr/>
              <a:tblGrid>
                <a:gridCol w="1670040"/>
                <a:gridCol w="422280"/>
                <a:gridCol w="411120"/>
                <a:gridCol w="399960"/>
                <a:gridCol w="400320"/>
              </a:tblGrid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F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P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N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Hospital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Id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ESI_Information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ystem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Dat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ate_Of_Birth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View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Top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Bottom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Lef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igh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Ti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Windowing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eport_Curso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raphic_Result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0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ccession_Numb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</a:tbl>
          </a:graphicData>
        </a:graphic>
      </p:graphicFrame>
      <p:sp>
        <p:nvSpPr>
          <p:cNvPr id="160" name="TextBox 3"/>
          <p:cNvSpPr/>
          <p:nvPr/>
        </p:nvSpPr>
        <p:spPr>
          <a:xfrm>
            <a:off x="2729520" y="636264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F: Full, P:Partial, N:None, S:Small Viewport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1"/>
          <p:cNvGrpSpPr/>
          <p:nvPr/>
        </p:nvGrpSpPr>
        <p:grpSpPr>
          <a:xfrm>
            <a:off x="25560" y="442800"/>
            <a:ext cx="9118440" cy="5688360"/>
            <a:chOff x="25560" y="442800"/>
            <a:chExt cx="9118440" cy="5688360"/>
          </a:xfrm>
        </p:grpSpPr>
        <p:sp>
          <p:nvSpPr>
            <p:cNvPr id="162" name="Rectangle 4"/>
            <p:cNvSpPr/>
            <p:nvPr/>
          </p:nvSpPr>
          <p:spPr>
            <a:xfrm>
              <a:off x="111240" y="442800"/>
              <a:ext cx="502920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0 – AManufacturer + AStation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ystem_Name)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 - AEx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– ASe +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serieTyp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AAnatomicalRef + ASliceLocation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4 - AIm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6 - AfovVal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isplay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reconAlg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isplay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8 – AHeartRate 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geometry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10 – ArepPixR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1 – ArepPixA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2 – ArepPixS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3 – ArepPixV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63" name="Rectangle 5"/>
            <p:cNvSpPr/>
            <p:nvPr/>
          </p:nvSpPr>
          <p:spPr>
            <a:xfrm>
              <a:off x="5140440" y="442800"/>
              <a:ext cx="375264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– AHosp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AccessionNumber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Accession_Number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– APatient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Nam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– ASex + AAge + AShortPat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Id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– ABirth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ate_Of_Birth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- AAcq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6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ScanTimeOfDay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Scan_Time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7 -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cardiacRecon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geometry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8 – AzoomFactor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9 – AcurrentFL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0 – AcurrentROT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1 – AviewFilterType (Filter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64" name="Rectangle 6"/>
            <p:cNvSpPr/>
            <p:nvPr/>
          </p:nvSpPr>
          <p:spPr>
            <a:xfrm>
              <a:off x="111240" y="3163680"/>
              <a:ext cx="5029200" cy="296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– AKvolt 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tracer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randoms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IWidthScanTyp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Display_Parameters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dur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SeriesDescription (Display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framebin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WindowMin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+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WindowMax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Windowing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65" name="Rectangle 7"/>
            <p:cNvSpPr/>
            <p:nvPr/>
          </p:nvSpPr>
          <p:spPr>
            <a:xfrm>
              <a:off x="5140440" y="3163680"/>
              <a:ext cx="3752640" cy="296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ARoiResult1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– ARoiResult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ARoiResult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TimeFromInject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Scan_Parameter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0 – ARoiResult99 (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66" name="Text Box 8"/>
            <p:cNvSpPr/>
            <p:nvPr/>
          </p:nvSpPr>
          <p:spPr>
            <a:xfrm>
              <a:off x="4384800" y="5884920"/>
              <a:ext cx="18176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S 0 - ArasS (Bottom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67" name="Text Box 9"/>
            <p:cNvSpPr/>
            <p:nvPr/>
          </p:nvSpPr>
          <p:spPr>
            <a:xfrm>
              <a:off x="4442040" y="453600"/>
              <a:ext cx="16840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N 0 - ArasN (Top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68" name="Text Box 10"/>
            <p:cNvSpPr/>
            <p:nvPr/>
          </p:nvSpPr>
          <p:spPr>
            <a:xfrm>
              <a:off x="7423200" y="3036960"/>
              <a:ext cx="17208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E 0 - ArasE (Righ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69" name="Text Box 11"/>
            <p:cNvSpPr/>
            <p:nvPr/>
          </p:nvSpPr>
          <p:spPr>
            <a:xfrm>
              <a:off x="25560" y="3021120"/>
              <a:ext cx="17096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W 0 - ArasW (Lef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170" name="Text Box 13"/>
          <p:cNvSpPr/>
          <p:nvPr/>
        </p:nvSpPr>
        <p:spPr>
          <a:xfrm>
            <a:off x="222120" y="11160"/>
            <a:ext cx="87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CVF 2D PT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68200" y="0"/>
            <a:ext cx="84600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PT 2D Annotation Group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976320" y="581040"/>
          <a:ext cx="3303720" cy="5235480"/>
        </p:xfrm>
        <a:graphic>
          <a:graphicData uri="http://schemas.openxmlformats.org/drawingml/2006/table">
            <a:tbl>
              <a:tblPr/>
              <a:tblGrid>
                <a:gridCol w="1670040"/>
                <a:gridCol w="422280"/>
                <a:gridCol w="411120"/>
                <a:gridCol w="399960"/>
                <a:gridCol w="400320"/>
              </a:tblGrid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F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P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N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Hospital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Id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ESI_Information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ystem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Dat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ate_Of_Birth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View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Top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Bottom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Lef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igh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Ti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isplay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Windowing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eport_Curso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raphic_Result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eometry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ccession_Numb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0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Filt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</a:tbl>
          </a:graphicData>
        </a:graphic>
      </p:graphicFrame>
      <p:sp>
        <p:nvSpPr>
          <p:cNvPr id="173" name="TextBox 3"/>
          <p:cNvSpPr/>
          <p:nvPr/>
        </p:nvSpPr>
        <p:spPr>
          <a:xfrm>
            <a:off x="2729520" y="636264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F: Full, P:Partial, N:None, S:Small Viewport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1"/>
          <p:cNvGrpSpPr/>
          <p:nvPr/>
        </p:nvGrpSpPr>
        <p:grpSpPr>
          <a:xfrm>
            <a:off x="111240" y="442800"/>
            <a:ext cx="8781840" cy="5686560"/>
            <a:chOff x="111240" y="442800"/>
            <a:chExt cx="8781840" cy="5686560"/>
          </a:xfrm>
        </p:grpSpPr>
        <p:sp>
          <p:nvSpPr>
            <p:cNvPr id="175" name="Rectangle 4"/>
            <p:cNvSpPr/>
            <p:nvPr/>
          </p:nvSpPr>
          <p:spPr>
            <a:xfrm>
              <a:off x="111240" y="442800"/>
              <a:ext cx="502920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0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AcqDate + dispAcqTime 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cqInfo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Dob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PatientInfo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PatName + dispPatientId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PatientInfo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AccessionNum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StudyInfo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76" name="Rectangle 5"/>
            <p:cNvSpPr/>
            <p:nvPr/>
          </p:nvSpPr>
          <p:spPr>
            <a:xfrm>
              <a:off x="5140440" y="442800"/>
              <a:ext cx="375264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HospitalNam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HospitalInfo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PatientDose + dispDoseProduct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Dose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TubeCurrent + dispKvp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Dose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ExposureMs + dispExposureMas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Dose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UnCompDetExposure + CompDetExposur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Dose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etExposureIndex  + DetExposureRang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Dose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77" name="Rectangle 6"/>
            <p:cNvSpPr/>
            <p:nvPr/>
          </p:nvSpPr>
          <p:spPr>
            <a:xfrm>
              <a:off x="111240" y="3163680"/>
              <a:ext cx="5029200" cy="296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RRAClassification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RRAInfo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ProcessingType + dispEdg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Processing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ProcessingDate + dispProcessingTim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Processing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Laterality + dispAnatomicalView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natomyInfo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SliceHeight + dispSliceInterval + dispSamplingFactor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Processing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78" name="Rectangle 7"/>
            <p:cNvSpPr/>
            <p:nvPr/>
          </p:nvSpPr>
          <p:spPr>
            <a:xfrm>
              <a:off x="5140440" y="3163680"/>
              <a:ext cx="3752640" cy="296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8 -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RoiResult5 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Measuremen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7 -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RoiResult4 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Measuremen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RoiResult3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Measuremen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RoiResult2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Measuremen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RoiResult1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Measuremen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3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WindowWidth + dispWindowLevel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DisplayParams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2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Zoom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DisplayParams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179" name="Text Box 13"/>
          <p:cNvSpPr/>
          <p:nvPr/>
        </p:nvSpPr>
        <p:spPr>
          <a:xfrm>
            <a:off x="222120" y="11160"/>
            <a:ext cx="87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CVF 2D DX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68200" y="0"/>
            <a:ext cx="84600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DX 2D Annotation Group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976320" y="581040"/>
          <a:ext cx="3303720" cy="3083040"/>
        </p:xfrm>
        <a:graphic>
          <a:graphicData uri="http://schemas.openxmlformats.org/drawingml/2006/table">
            <a:tbl>
              <a:tblPr/>
              <a:tblGrid>
                <a:gridCol w="1670040"/>
                <a:gridCol w="422280"/>
                <a:gridCol w="411120"/>
                <a:gridCol w="399960"/>
                <a:gridCol w="400320"/>
              </a:tblGrid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F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P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N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Info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os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cqInfo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roessing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HospitalInfo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Measurement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isplayParam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natomyInfo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4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tudyInfo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ImageInfo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eriesInfo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0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RAInfo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</a:tbl>
          </a:graphicData>
        </a:graphic>
      </p:graphicFrame>
      <p:sp>
        <p:nvSpPr>
          <p:cNvPr id="182" name="TextBox 3"/>
          <p:cNvSpPr/>
          <p:nvPr/>
        </p:nvSpPr>
        <p:spPr>
          <a:xfrm>
            <a:off x="2729520" y="636264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F: Full, P:Partial, N:None, S:Small Viewport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77640" y="2976480"/>
            <a:ext cx="845964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Core Viewer 3D Annotation Style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1"/>
          <p:cNvGrpSpPr/>
          <p:nvPr/>
        </p:nvGrpSpPr>
        <p:grpSpPr>
          <a:xfrm>
            <a:off x="111240" y="442800"/>
            <a:ext cx="8781840" cy="5686560"/>
            <a:chOff x="111240" y="442800"/>
            <a:chExt cx="8781840" cy="5686560"/>
          </a:xfrm>
        </p:grpSpPr>
        <p:sp>
          <p:nvSpPr>
            <p:cNvPr id="184" name="Rectangle 4"/>
            <p:cNvSpPr/>
            <p:nvPr/>
          </p:nvSpPr>
          <p:spPr>
            <a:xfrm>
              <a:off x="111240" y="442800"/>
              <a:ext cx="502920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0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LongPatientNam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Patient_Name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– APhysicianName (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PatientID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Patient_Id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4 -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Procedure_Protocol (Patient_Id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5  -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Comments (Patient_Id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6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patdob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Patient_Name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AccessionNumber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ccession_Number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8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Sex (Patient_Id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85" name="Rectangle 5"/>
            <p:cNvSpPr/>
            <p:nvPr/>
          </p:nvSpPr>
          <p:spPr>
            <a:xfrm>
              <a:off x="5140440" y="442800"/>
              <a:ext cx="375264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HospName (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2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AcqDate (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3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AcqTime (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8 – AzoomFactor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9 – AcurrentFL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0 – AcurrentROT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86" name="Rectangle 6"/>
            <p:cNvSpPr/>
            <p:nvPr/>
          </p:nvSpPr>
          <p:spPr>
            <a:xfrm>
              <a:off x="111240" y="3163680"/>
              <a:ext cx="5029200" cy="296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kvolt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1e4191"/>
                  </a:solidFill>
                  <a:latin typeface="Times New Roman"/>
                </a:rPr>
                <a:t>SW -5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current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Im (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1e4191"/>
                  </a:solidFill>
                  <a:latin typeface="Times New Roman"/>
                </a:rPr>
                <a:t>SW 0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FrameIndex / numFrames  [NAT|SUB]  (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87" name="Rectangle 7"/>
            <p:cNvSpPr/>
            <p:nvPr/>
          </p:nvSpPr>
          <p:spPr>
            <a:xfrm>
              <a:off x="5140440" y="3163680"/>
              <a:ext cx="3752640" cy="296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ARoiResult1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– ARoiResult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ARoiResult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0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WindowWidth  + AWindowCenter (Windowing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188" name="Text Box 13"/>
          <p:cNvSpPr/>
          <p:nvPr/>
        </p:nvSpPr>
        <p:spPr>
          <a:xfrm>
            <a:off x="222120" y="11160"/>
            <a:ext cx="87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CVF 2D XA,RF,CR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68200" y="0"/>
            <a:ext cx="84600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XA, RF, CR 2D Annotation Group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76320" y="581040"/>
          <a:ext cx="3303720" cy="2843280"/>
        </p:xfrm>
        <a:graphic>
          <a:graphicData uri="http://schemas.openxmlformats.org/drawingml/2006/table">
            <a:tbl>
              <a:tblPr/>
              <a:tblGrid>
                <a:gridCol w="1670040"/>
                <a:gridCol w="422280"/>
                <a:gridCol w="411120"/>
                <a:gridCol w="399960"/>
                <a:gridCol w="400320"/>
              </a:tblGrid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F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P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N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Hospital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Id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ESI_Information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Dat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Ti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View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4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raphic_Result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Windowing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0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ccession_Numb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</a:tbl>
          </a:graphicData>
        </a:graphic>
      </p:graphicFrame>
      <p:sp>
        <p:nvSpPr>
          <p:cNvPr id="191" name="TextBox 3"/>
          <p:cNvSpPr/>
          <p:nvPr/>
        </p:nvSpPr>
        <p:spPr>
          <a:xfrm>
            <a:off x="2729520" y="636264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F: Full, P:Partial, N:None, S:Small Viewport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77640" y="2976480"/>
            <a:ext cx="845964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Backup Material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2"/>
          <p:cNvGrpSpPr/>
          <p:nvPr/>
        </p:nvGrpSpPr>
        <p:grpSpPr>
          <a:xfrm>
            <a:off x="0" y="600120"/>
            <a:ext cx="9144000" cy="5025960"/>
            <a:chOff x="0" y="600120"/>
            <a:chExt cx="9144000" cy="5025960"/>
          </a:xfrm>
        </p:grpSpPr>
        <p:sp>
          <p:nvSpPr>
            <p:cNvPr id="194" name="Rectangle 3"/>
            <p:cNvSpPr/>
            <p:nvPr/>
          </p:nvSpPr>
          <p:spPr>
            <a:xfrm>
              <a:off x="209520" y="600120"/>
              <a:ext cx="455616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0 - viewType + volume + series2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eries_Data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 - ex_no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+ accession#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Accession_Numb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- se_no + Contas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slice loc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4 - im_no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5 – dfov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6 - recon algo + phas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– avgHeartR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Detail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95" name="Rectangle 4"/>
            <p:cNvSpPr/>
            <p:nvPr/>
          </p:nvSpPr>
          <p:spPr>
            <a:xfrm>
              <a:off x="4757760" y="600120"/>
              <a:ext cx="413532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– hosp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Hospital_Nam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1 – patient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Nam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- sex + age + pat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Id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– birth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ate_Of_Birth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- acq 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– Segment anno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6 - cardiacRecon OR compression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96" name="Rectangle 5"/>
            <p:cNvSpPr/>
            <p:nvPr/>
          </p:nvSpPr>
          <p:spPr>
            <a:xfrm>
              <a:off x="209520" y="3084480"/>
              <a:ext cx="454824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2 – angl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Windowing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9 - slice thickness + render mod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- smart ma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– kv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– ma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- scan rot speed + rot type +  table spee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- native sl thk (SP) + spacing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eometry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+ pitch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- gantry tilt + hi res + gsi prese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Detail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- study ti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Ti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- window width + window level 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Windowing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97" name="Rectangle 6"/>
            <p:cNvSpPr/>
            <p:nvPr/>
          </p:nvSpPr>
          <p:spPr>
            <a:xfrm>
              <a:off x="4757760" y="3084480"/>
              <a:ext cx="413532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8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7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roiResult1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- roiResult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roiResult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3 - blend ratio3 + blend type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2 - VOI blend ratio + selected voi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- blend ratio1/ layer1/ type1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0 - wwL2 + wlL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Windowing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98" name="Text Box 7"/>
            <p:cNvSpPr/>
            <p:nvPr/>
          </p:nvSpPr>
          <p:spPr>
            <a:xfrm>
              <a:off x="3957480" y="5227560"/>
              <a:ext cx="19670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S -1 - rasSouth (Bottom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S 0 - not for diagnosis msg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99" name="Text Box 8"/>
            <p:cNvSpPr/>
            <p:nvPr/>
          </p:nvSpPr>
          <p:spPr>
            <a:xfrm>
              <a:off x="4046400" y="723960"/>
              <a:ext cx="16844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N 1 - rasNorth (Top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00" name="Text Box 9"/>
            <p:cNvSpPr/>
            <p:nvPr/>
          </p:nvSpPr>
          <p:spPr>
            <a:xfrm>
              <a:off x="7423200" y="2997360"/>
              <a:ext cx="17208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E 0 - rasEast (Righ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01" name="Text Box 10"/>
            <p:cNvSpPr/>
            <p:nvPr/>
          </p:nvSpPr>
          <p:spPr>
            <a:xfrm>
              <a:off x="0" y="3011400"/>
              <a:ext cx="17096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W 0 - rasWest (Lef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202" name="Text Box 11"/>
          <p:cNvSpPr/>
          <p:nvPr/>
        </p:nvSpPr>
        <p:spPr>
          <a:xfrm>
            <a:off x="89280" y="96840"/>
            <a:ext cx="33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GSI Viewer CT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10"/>
          <p:cNvSpPr/>
          <p:nvPr/>
        </p:nvSpPr>
        <p:spPr>
          <a:xfrm>
            <a:off x="109080" y="96840"/>
            <a:ext cx="28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DMPR1 CT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  <p:grpSp>
        <p:nvGrpSpPr>
          <p:cNvPr id="204" name="Group 20"/>
          <p:cNvGrpSpPr/>
          <p:nvPr/>
        </p:nvGrpSpPr>
        <p:grpSpPr>
          <a:xfrm>
            <a:off x="0" y="685800"/>
            <a:ext cx="9144000" cy="5322960"/>
            <a:chOff x="0" y="685800"/>
            <a:chExt cx="9144000" cy="5322960"/>
          </a:xfrm>
        </p:grpSpPr>
        <p:sp>
          <p:nvSpPr>
            <p:cNvPr id="205" name="Rectangle 11"/>
            <p:cNvSpPr/>
            <p:nvPr/>
          </p:nvSpPr>
          <p:spPr>
            <a:xfrm>
              <a:off x="209520" y="685800"/>
              <a:ext cx="455616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0 - vavViewType (ESI Group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 - ModelName + " SYS#" + stationName (System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- ex_no (ESIGroup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se_no + se_type (ESIGroup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4 - vavImageLocation (ESIGroup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5 - vavRenderType (ESIGroup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6 - DFOV (Scan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8 - reconflag (Scan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9 - vavAcquisitionStatus (Scan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0 - avgHeartRate (ScanBottom) OR reportPixel_R (GraphicAnnot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1 - rPeakDelay (ScanBottom) OR reportPixel_A (GraphicAnnot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2 - reportPixel_S (GraphicAnnot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3 - reportPixel_V (GraphicAnnot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06" name="Rectangle 12"/>
            <p:cNvSpPr/>
            <p:nvPr/>
          </p:nvSpPr>
          <p:spPr>
            <a:xfrm>
              <a:off x="4757760" y="685800"/>
              <a:ext cx="413532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- hospname (Hospital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1 - Accession Number (AccNumb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- patientName (Patient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- patid (PatientID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- birthDate (DateOfBirth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- acq_datetime (DateTi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7 - zoomFactor (ViewParameters) OR cardiacRecon (Scan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8 - Flip position (View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9 - Rotation Angle (View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10 - filter + GSE (ImageGeometry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07" name="Rectangle 13"/>
            <p:cNvSpPr/>
            <p:nvPr/>
          </p:nvSpPr>
          <p:spPr>
            <a:xfrm>
              <a:off x="209520" y="3348000"/>
              <a:ext cx="4548240" cy="266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8 - vavImageThickness (Scan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- kv (Scan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- ma (Scan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- noiseIndex + SmartMA + npAutomAMode (Scan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- sfov + sfov type (Scan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- slice thickness + table speed + helical scan mode (Scan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- gantry tilt (Scan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- rotationtime + acq_datetime + deltastart + tempResolution (ScanTimeOfDa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- window width + window level (WindowingAnnot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08" name="Rectangle 14"/>
            <p:cNvSpPr/>
            <p:nvPr/>
          </p:nvSpPr>
          <p:spPr>
            <a:xfrm>
              <a:off x="4757760" y="3348000"/>
              <a:ext cx="4135320" cy="266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8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7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roiResult1 (GraphicAnnotation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- roiResult2 (GraphicAnnot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roiResult3 (GraphicAnnot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3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2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0 -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09" name="Text Box 15"/>
            <p:cNvSpPr/>
            <p:nvPr/>
          </p:nvSpPr>
          <p:spPr>
            <a:xfrm>
              <a:off x="4184640" y="5751360"/>
              <a:ext cx="17892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S 1 - rasSouth (Bottom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10" name="Text Box 16"/>
            <p:cNvSpPr/>
            <p:nvPr/>
          </p:nvSpPr>
          <p:spPr>
            <a:xfrm>
              <a:off x="4046400" y="817560"/>
              <a:ext cx="1694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N 1 - rasNorth (Top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11" name="Text Box 17"/>
            <p:cNvSpPr/>
            <p:nvPr/>
          </p:nvSpPr>
          <p:spPr>
            <a:xfrm>
              <a:off x="7451640" y="3254400"/>
              <a:ext cx="16923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E 1 - rasEast (Righ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0" y="3271680"/>
              <a:ext cx="17002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W 1 - rasWest (Lef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2"/>
          <p:cNvSpPr/>
          <p:nvPr/>
        </p:nvSpPr>
        <p:spPr>
          <a:xfrm>
            <a:off x="68400" y="96840"/>
            <a:ext cx="39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Volume Viewer CT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  <p:grpSp>
        <p:nvGrpSpPr>
          <p:cNvPr id="214" name="Group 21"/>
          <p:cNvGrpSpPr/>
          <p:nvPr/>
        </p:nvGrpSpPr>
        <p:grpSpPr>
          <a:xfrm>
            <a:off x="158760" y="714240"/>
            <a:ext cx="8985240" cy="5112000"/>
            <a:chOff x="158760" y="714240"/>
            <a:chExt cx="8985240" cy="5112000"/>
          </a:xfrm>
        </p:grpSpPr>
        <p:sp>
          <p:nvSpPr>
            <p:cNvPr id="215" name="Rectangle 12"/>
            <p:cNvSpPr/>
            <p:nvPr/>
          </p:nvSpPr>
          <p:spPr>
            <a:xfrm>
              <a:off x="365040" y="714240"/>
              <a:ext cx="447696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0 - ViewTyp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 - ex_no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se_no + se_typ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4 - sliceLocation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6 - DFOV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- ConvolutionKernel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16" name="Rectangle 13"/>
            <p:cNvSpPr/>
            <p:nvPr/>
          </p:nvSpPr>
          <p:spPr>
            <a:xfrm>
              <a:off x="4834080" y="714240"/>
              <a:ext cx="406368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- hospname (Hospital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1 - patientName (Patient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- sex + age + patid (PatientID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- birthDate (DateOfBirth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- acq_datetime (DateTi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-11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-12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-13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-14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-15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-16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17" name="Rectangle 14"/>
            <p:cNvSpPr/>
            <p:nvPr/>
          </p:nvSpPr>
          <p:spPr>
            <a:xfrm>
              <a:off x="365040" y="3164040"/>
              <a:ext cx="446904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- slice thickness / Render Mod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- kv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- ma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- rotationtime + deltastar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- pitch / slice spacing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- gantry tilt (Scan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- acq_datetim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- window width + window level (WindowingAnnot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18" name="Rectangle 15"/>
            <p:cNvSpPr/>
            <p:nvPr/>
          </p:nvSpPr>
          <p:spPr>
            <a:xfrm>
              <a:off x="4834080" y="3164040"/>
              <a:ext cx="406368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1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0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9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8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7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roiResult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- roiResult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roiResult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3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2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0 -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19" name="Text Box 16"/>
            <p:cNvSpPr/>
            <p:nvPr/>
          </p:nvSpPr>
          <p:spPr>
            <a:xfrm>
              <a:off x="4214880" y="5440320"/>
              <a:ext cx="18144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S 0 - rasSouth (Bottom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20" name="Text Box 17"/>
            <p:cNvSpPr/>
            <p:nvPr/>
          </p:nvSpPr>
          <p:spPr>
            <a:xfrm>
              <a:off x="4135320" y="722160"/>
              <a:ext cx="164952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N 0 - rasNorth (Top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21" name="Text Box 18"/>
            <p:cNvSpPr/>
            <p:nvPr/>
          </p:nvSpPr>
          <p:spPr>
            <a:xfrm>
              <a:off x="7369200" y="3078000"/>
              <a:ext cx="17748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E 0 - rasEast (Righ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22" name="Text Box 19"/>
            <p:cNvSpPr/>
            <p:nvPr/>
          </p:nvSpPr>
          <p:spPr>
            <a:xfrm>
              <a:off x="158760" y="3092400"/>
              <a:ext cx="16686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W 0 - rasWest (Lef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68040" y="96840"/>
            <a:ext cx="401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Volume Viewer MR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  <p:grpSp>
        <p:nvGrpSpPr>
          <p:cNvPr id="224" name="Group 21"/>
          <p:cNvGrpSpPr/>
          <p:nvPr/>
        </p:nvGrpSpPr>
        <p:grpSpPr>
          <a:xfrm>
            <a:off x="158760" y="714240"/>
            <a:ext cx="8985240" cy="5113800"/>
            <a:chOff x="158760" y="714240"/>
            <a:chExt cx="8985240" cy="5113800"/>
          </a:xfrm>
        </p:grpSpPr>
        <p:sp>
          <p:nvSpPr>
            <p:cNvPr id="225" name="Rectangle 12"/>
            <p:cNvSpPr/>
            <p:nvPr/>
          </p:nvSpPr>
          <p:spPr>
            <a:xfrm>
              <a:off x="365040" y="714240"/>
              <a:ext cx="447696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0 – ViewType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 - ex_no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se_no + se_typ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5 – Im #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6 - sliceLocation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11 - E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- ConvolutionKernel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26" name="Rectangle 13"/>
            <p:cNvSpPr/>
            <p:nvPr/>
          </p:nvSpPr>
          <p:spPr>
            <a:xfrm>
              <a:off x="4834080" y="714240"/>
              <a:ext cx="406368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- hospnam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E 1 – patientName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- sex + age + patid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- DoB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- acq_date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5 - ??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27" name="Rectangle 14"/>
            <p:cNvSpPr/>
            <p:nvPr/>
          </p:nvSpPr>
          <p:spPr>
            <a:xfrm>
              <a:off x="365040" y="3164040"/>
              <a:ext cx="446904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1 – acquisition matrix / NE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0 – scan tim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SW -9 – slice thickness /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pacing</a:t>
              </a: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  Render Mode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SW -8 – DFOV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– Coil Typ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- EC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- T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- TR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– model nam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– imaging options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SW 0 - window width + window level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28" name="Rectangle 15"/>
            <p:cNvSpPr/>
            <p:nvPr/>
          </p:nvSpPr>
          <p:spPr>
            <a:xfrm>
              <a:off x="4834080" y="3164040"/>
              <a:ext cx="406368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29" name="Text Box 16"/>
            <p:cNvSpPr/>
            <p:nvPr/>
          </p:nvSpPr>
          <p:spPr>
            <a:xfrm>
              <a:off x="4135320" y="5581800"/>
              <a:ext cx="20163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S 0 - rasSouth (BottomMarker)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30" name="Text Box 17"/>
            <p:cNvSpPr/>
            <p:nvPr/>
          </p:nvSpPr>
          <p:spPr>
            <a:xfrm>
              <a:off x="3824280" y="722160"/>
              <a:ext cx="207792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N 0 - rasNorth (TopMarker)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31" name="Text Box 18"/>
            <p:cNvSpPr/>
            <p:nvPr/>
          </p:nvSpPr>
          <p:spPr>
            <a:xfrm>
              <a:off x="7219800" y="3078000"/>
              <a:ext cx="19242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E 0 - rasEast (RightMarker)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32" name="Text Box 19"/>
            <p:cNvSpPr/>
            <p:nvPr/>
          </p:nvSpPr>
          <p:spPr>
            <a:xfrm>
              <a:off x="158760" y="3092400"/>
              <a:ext cx="191772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W 0 - rasWest (LeftMarker)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233" name="Rectangle 1"/>
          <p:cNvSpPr/>
          <p:nvPr/>
        </p:nvSpPr>
        <p:spPr>
          <a:xfrm>
            <a:off x="3557880" y="5975280"/>
            <a:ext cx="274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– partial annotation items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4191"/>
                </a:solidFill>
                <a:latin typeface="Times New Roman"/>
              </a:rPr>
              <a:t>Bold Annotations </a:t>
            </a:r>
            <a:r>
              <a:rPr b="0" lang="en-US" sz="1800" spc="-1" strike="noStrike">
                <a:solidFill>
                  <a:srgbClr val="1e4191"/>
                </a:solidFill>
                <a:latin typeface="Times New Roman"/>
              </a:rPr>
              <a:t>- active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1"/>
          <p:cNvGrpSpPr/>
          <p:nvPr/>
        </p:nvGrpSpPr>
        <p:grpSpPr>
          <a:xfrm>
            <a:off x="0" y="600120"/>
            <a:ext cx="9144000" cy="4974120"/>
            <a:chOff x="0" y="600120"/>
            <a:chExt cx="9144000" cy="4974120"/>
          </a:xfrm>
        </p:grpSpPr>
        <p:sp>
          <p:nvSpPr>
            <p:cNvPr id="82" name="Rectangle 4"/>
            <p:cNvSpPr/>
            <p:nvPr/>
          </p:nvSpPr>
          <p:spPr>
            <a:xfrm>
              <a:off x="209520" y="600120"/>
              <a:ext cx="455616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0 – viewType (geomtery) + volume + series2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eries_Data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manufacturer + AModelName + AStationName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System_Name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- ex_no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se_no + Contas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4 - slice loc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5 - im_no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6 – dfov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- recon algo + phas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8 – avgHeartR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Detail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83" name="Rectangle 5"/>
            <p:cNvSpPr/>
            <p:nvPr/>
          </p:nvSpPr>
          <p:spPr>
            <a:xfrm>
              <a:off x="4757760" y="600120"/>
              <a:ext cx="413532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– hosp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ccession#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Accession_Number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– patient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Nam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- sex + age + pat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Id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– birth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ate_Of_Birth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- acq 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6 – Segment anno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7 - cardiacRecon + compression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84" name="Rectangle 6"/>
            <p:cNvSpPr/>
            <p:nvPr/>
          </p:nvSpPr>
          <p:spPr>
            <a:xfrm>
              <a:off x="209520" y="3084480"/>
              <a:ext cx="454824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2 – angl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Windowing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SW -9 - slice thickness /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pacing</a:t>
              </a: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 + render mode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- smart ma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– kv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– ma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- scan rot speed + rot type +  table spee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- native sl thk (SP) + pitch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- gantry tilt + hi res + gsi prese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Detail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- study ti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Ti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SW 0 - window width + window level 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Windowing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85" name="Rectangle 7"/>
            <p:cNvSpPr/>
            <p:nvPr/>
          </p:nvSpPr>
          <p:spPr>
            <a:xfrm>
              <a:off x="4757760" y="3084480"/>
              <a:ext cx="413532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8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7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roiResult1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- roiResult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roiResult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3 - blend ratio3 + blend type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2 - VOI blend ratio + selected voi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- blend ratio1/ layer1/ type1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0 - wwL2 + wlL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Windowing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86" name="Text Box 8"/>
            <p:cNvSpPr/>
            <p:nvPr/>
          </p:nvSpPr>
          <p:spPr>
            <a:xfrm>
              <a:off x="3776400" y="5328000"/>
              <a:ext cx="19544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S 0 - rasSouth (Bottom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87" name="Text Box 9"/>
            <p:cNvSpPr/>
            <p:nvPr/>
          </p:nvSpPr>
          <p:spPr>
            <a:xfrm>
              <a:off x="4046400" y="601560"/>
              <a:ext cx="18198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N 0 - rasNorth (Top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88" name="Text Box 10"/>
            <p:cNvSpPr/>
            <p:nvPr/>
          </p:nvSpPr>
          <p:spPr>
            <a:xfrm>
              <a:off x="7291440" y="2997360"/>
              <a:ext cx="18525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E 0 - rasEast (Righ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89" name="Text Box 11"/>
            <p:cNvSpPr/>
            <p:nvPr/>
          </p:nvSpPr>
          <p:spPr>
            <a:xfrm>
              <a:off x="0" y="3011400"/>
              <a:ext cx="1793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W 0 - rasWest (Lef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90" name="Text Box 13"/>
          <p:cNvSpPr/>
          <p:nvPr/>
        </p:nvSpPr>
        <p:spPr>
          <a:xfrm>
            <a:off x="222120" y="96840"/>
            <a:ext cx="87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CVF 3D CT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68200" y="0"/>
            <a:ext cx="84600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CT 3D Annotation Group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976320" y="581040"/>
          <a:ext cx="3303720" cy="4757760"/>
        </p:xfrm>
        <a:graphic>
          <a:graphicData uri="http://schemas.openxmlformats.org/drawingml/2006/table">
            <a:tbl>
              <a:tblPr/>
              <a:tblGrid>
                <a:gridCol w="1670040"/>
                <a:gridCol w="422280"/>
                <a:gridCol w="411120"/>
                <a:gridCol w="399960"/>
                <a:gridCol w="400320"/>
              </a:tblGrid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F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P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N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Hospital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ystem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Id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ESI_Information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Dat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eometry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Top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Bottom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Lef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igh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Ti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4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ate_Of_Birth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Windowing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raphic_Result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ccession_Numb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Detail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0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eries_Data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</a:tbl>
          </a:graphicData>
        </a:graphic>
      </p:graphicFrame>
      <p:sp>
        <p:nvSpPr>
          <p:cNvPr id="93" name="TextBox 3"/>
          <p:cNvSpPr/>
          <p:nvPr/>
        </p:nvSpPr>
        <p:spPr>
          <a:xfrm>
            <a:off x="2729520" y="636264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F: Full, P:Partial, N:None, S:Small Viewport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1"/>
          <p:cNvGrpSpPr/>
          <p:nvPr/>
        </p:nvGrpSpPr>
        <p:grpSpPr>
          <a:xfrm>
            <a:off x="98280" y="600120"/>
            <a:ext cx="9045720" cy="4974120"/>
            <a:chOff x="98280" y="600120"/>
            <a:chExt cx="9045720" cy="4974120"/>
          </a:xfrm>
        </p:grpSpPr>
        <p:sp>
          <p:nvSpPr>
            <p:cNvPr id="95" name="Rectangle 4"/>
            <p:cNvSpPr/>
            <p:nvPr/>
          </p:nvSpPr>
          <p:spPr>
            <a:xfrm>
              <a:off x="209160" y="600120"/>
              <a:ext cx="455616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0 – viewType (geomtery) + volu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manufacturer + AModelName + AStationName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System_Name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- ex_no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se_no + Contas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4 - slice loc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5 - im_no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6 – dfov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- recon algo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8 – avgHeartR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Detail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96" name="Rectangle 5"/>
            <p:cNvSpPr/>
            <p:nvPr/>
          </p:nvSpPr>
          <p:spPr>
            <a:xfrm>
              <a:off x="4757760" y="600120"/>
              <a:ext cx="413532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– hosp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ccession#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Accession_Number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– patient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Nam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- sex + age + pat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Id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– birth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ate_Of_Birth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- acq 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6 – Scan Time Of Day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Ti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97" name="Rectangle 6"/>
            <p:cNvSpPr/>
            <p:nvPr/>
          </p:nvSpPr>
          <p:spPr>
            <a:xfrm>
              <a:off x="209160" y="3084480"/>
              <a:ext cx="454824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SW -9 - </a:t>
              </a:r>
              <a:r>
                <a:rPr b="1" lang="en-US" sz="1000" spc="-1" strike="noStrike">
                  <a:solidFill>
                    <a:srgbClr val="1e4191"/>
                  </a:solidFill>
                  <a:latin typeface="GE Inspira Pitch"/>
                </a:rPr>
                <a:t>slice thickness /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spacing</a:t>
              </a:r>
              <a:r>
                <a:rPr b="1" lang="en-US" sz="1000" spc="-1" strike="noStrike">
                  <a:solidFill>
                    <a:srgbClr val="1e4191"/>
                  </a:solidFill>
                  <a:latin typeface="GE Inspira Pitch"/>
                </a:rPr>
                <a:t>  +  render mode 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(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Akvolt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Atracer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Arandoms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AIWidthScanTyp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isplay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-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ADur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-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ASeriesDescription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isplay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Aframebin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– window width2 + window level2 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Windowing)**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98" name="Rectangle 7"/>
            <p:cNvSpPr/>
            <p:nvPr/>
          </p:nvSpPr>
          <p:spPr>
            <a:xfrm>
              <a:off x="4757760" y="3084480"/>
              <a:ext cx="413532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roiResult1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- roiResult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roiResult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– ATimeFromInject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 (Scan_Parameters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SE 0 - Wmin + Wmax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Windowing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99" name="Text Box 8"/>
            <p:cNvSpPr/>
            <p:nvPr/>
          </p:nvSpPr>
          <p:spPr>
            <a:xfrm>
              <a:off x="3902040" y="5328000"/>
              <a:ext cx="19760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S 0 - rasSouth (Bottom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00" name="Text Box 9"/>
            <p:cNvSpPr/>
            <p:nvPr/>
          </p:nvSpPr>
          <p:spPr>
            <a:xfrm>
              <a:off x="4046400" y="601560"/>
              <a:ext cx="18316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N 0 - rasNorth (Top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01" name="Text Box 10"/>
            <p:cNvSpPr/>
            <p:nvPr/>
          </p:nvSpPr>
          <p:spPr>
            <a:xfrm>
              <a:off x="7243920" y="2959200"/>
              <a:ext cx="19000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E 0 - rasEast (Righ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02" name="Text Box 11"/>
            <p:cNvSpPr/>
            <p:nvPr/>
          </p:nvSpPr>
          <p:spPr>
            <a:xfrm>
              <a:off x="98280" y="2975040"/>
              <a:ext cx="187272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W 0 - rasWest (Lef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103" name="Text Box 13"/>
          <p:cNvSpPr/>
          <p:nvPr/>
        </p:nvSpPr>
        <p:spPr>
          <a:xfrm>
            <a:off x="222120" y="96840"/>
            <a:ext cx="87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CVF 3D PET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04" name="TextBox 1"/>
          <p:cNvSpPr/>
          <p:nvPr/>
        </p:nvSpPr>
        <p:spPr>
          <a:xfrm>
            <a:off x="2078280" y="5861160"/>
            <a:ext cx="49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** Only in CT-PT fused view for second layer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68200" y="0"/>
            <a:ext cx="84600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PT 3D Annotation Group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976320" y="581040"/>
          <a:ext cx="3303720" cy="4995720"/>
        </p:xfrm>
        <a:graphic>
          <a:graphicData uri="http://schemas.openxmlformats.org/drawingml/2006/table">
            <a:tbl>
              <a:tblPr/>
              <a:tblGrid>
                <a:gridCol w="1670040"/>
                <a:gridCol w="422280"/>
                <a:gridCol w="411120"/>
                <a:gridCol w="399960"/>
                <a:gridCol w="400320"/>
              </a:tblGrid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F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P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N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Hospital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ystem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Id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ESI_Information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Dat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ate_Of_Birth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eometry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4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Top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Bottom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Lef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igh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Ti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Windowing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raphic_Result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Detail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ccession_Numb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isplay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0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eries_Data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</a:tbl>
          </a:graphicData>
        </a:graphic>
      </p:graphicFrame>
      <p:sp>
        <p:nvSpPr>
          <p:cNvPr id="107" name="TextBox 3"/>
          <p:cNvSpPr/>
          <p:nvPr/>
        </p:nvSpPr>
        <p:spPr>
          <a:xfrm>
            <a:off x="2729520" y="636264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F: Full, P:Partial, N:None, S:Small Viewport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3"/>
          <p:cNvSpPr/>
          <p:nvPr/>
        </p:nvSpPr>
        <p:spPr>
          <a:xfrm>
            <a:off x="222120" y="96840"/>
            <a:ext cx="87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CVF 3D MR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  <p:grpSp>
        <p:nvGrpSpPr>
          <p:cNvPr id="109" name="Group 1"/>
          <p:cNvGrpSpPr/>
          <p:nvPr/>
        </p:nvGrpSpPr>
        <p:grpSpPr>
          <a:xfrm>
            <a:off x="42840" y="441360"/>
            <a:ext cx="9118800" cy="6218280"/>
            <a:chOff x="42840" y="441360"/>
            <a:chExt cx="9118800" cy="6218280"/>
          </a:xfrm>
        </p:grpSpPr>
        <p:sp>
          <p:nvSpPr>
            <p:cNvPr id="110" name="Rectangle 4"/>
            <p:cNvSpPr/>
            <p:nvPr/>
          </p:nvSpPr>
          <p:spPr>
            <a:xfrm>
              <a:off x="128520" y="501480"/>
              <a:ext cx="5029200" cy="323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0 – viewType (geomerty)+ volu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eries_Data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manufacturer + AModelName + AStationName (System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- AEx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– AS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4 – Slice Location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5 - AIm +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Contast </a:t>
              </a: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NW 6 -</a:t>
              </a: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dfov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– AHeartR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8 - AT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9 – AMENCFactor + ACPhas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10 – Aflow + Abvalu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11 – AprepPuls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12 – ABolusChasing + EchoTrn + Ainterleaves + AViewPerSeg + ARapidFrame + Athreshold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3 – AProjectionAngles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11" name="Rectangle 5"/>
            <p:cNvSpPr/>
            <p:nvPr/>
          </p:nvSpPr>
          <p:spPr>
            <a:xfrm>
              <a:off x="5157720" y="501480"/>
              <a:ext cx="3753000" cy="323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– AHosp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AccessionNumber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Accession_Number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– AShortPatient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Nam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– ASex + AAge + AShortPat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Id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– ABirth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ate_Of_Birth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- AAcq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6 – AAcqTi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Ti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12" name="Rectangle 6"/>
            <p:cNvSpPr/>
            <p:nvPr/>
          </p:nvSpPr>
          <p:spPr>
            <a:xfrm>
              <a:off x="128520" y="3737880"/>
              <a:ext cx="5029200" cy="292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SW 9 - slice thickness /spacing  +  render mode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8 – APsdAnnot + ASequenceName + ASequenceVariant + AScanSequence + AFlipAngl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- ATr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– AT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– AEchoNum + Abandwidth + ARcvrTyp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– AInvTi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– ACType 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+ AFiltering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– AScanLocation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 +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Scantime + APausetime +  ANum3Dslabs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– AAcquisitionMatrix + ANumAverag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– ASeSpecAcq + AScanOptions + ASeDesc + ARampedDirection  +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Tagging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13" name="Rectangle 7"/>
            <p:cNvSpPr/>
            <p:nvPr/>
          </p:nvSpPr>
          <p:spPr>
            <a:xfrm>
              <a:off x="5157720" y="3737880"/>
              <a:ext cx="3753000" cy="292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7 – ARTTimer (Patient_Id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AtiltAverag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– AMagTranOffse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ARoiResult1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3 - ARoiResult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2 - ARoiResult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– AFreqDir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SE 0 – AWindowWidth + AWindowLevel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Windowing)</a:t>
              </a: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14" name="Text Box 8"/>
            <p:cNvSpPr/>
            <p:nvPr/>
          </p:nvSpPr>
          <p:spPr>
            <a:xfrm>
              <a:off x="4482360" y="6259680"/>
              <a:ext cx="118440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S 0 - ArasS (Bottom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15" name="Text Box 9"/>
            <p:cNvSpPr/>
            <p:nvPr/>
          </p:nvSpPr>
          <p:spPr>
            <a:xfrm>
              <a:off x="4315680" y="441360"/>
              <a:ext cx="16844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N 0 - ArasN (Top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16" name="Text Box 10"/>
            <p:cNvSpPr/>
            <p:nvPr/>
          </p:nvSpPr>
          <p:spPr>
            <a:xfrm>
              <a:off x="7326360" y="3615480"/>
              <a:ext cx="18352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E 0 - ArasE (Righ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17" name="Text Box 11"/>
            <p:cNvSpPr/>
            <p:nvPr/>
          </p:nvSpPr>
          <p:spPr>
            <a:xfrm>
              <a:off x="42840" y="3599640"/>
              <a:ext cx="19036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W 0 - ArasW (Lef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68200" y="0"/>
            <a:ext cx="84600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MR 3D Annotation Group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2729520" y="636264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F: Full, P:Partial, N:None, S:Small Viewport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976320" y="676440"/>
          <a:ext cx="3303720" cy="4755960"/>
        </p:xfrm>
        <a:graphic>
          <a:graphicData uri="http://schemas.openxmlformats.org/drawingml/2006/table">
            <a:tbl>
              <a:tblPr/>
              <a:tblGrid>
                <a:gridCol w="1670040"/>
                <a:gridCol w="422280"/>
                <a:gridCol w="411120"/>
                <a:gridCol w="399960"/>
                <a:gridCol w="400320"/>
              </a:tblGrid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F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P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N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Hospital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Id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ESI_Information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ystem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Dat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ate_Of_Birth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eometry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Top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Bottom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Lef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igh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Ti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4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Windowing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raphic_Result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bottom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ccession_Numb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86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eries_Data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77640" y="2976480"/>
            <a:ext cx="845964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Core Viewer 2D Annotation Style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6T08:52:22Z</dcterms:created>
  <dc:creator>Authorized User</dc:creator>
  <dc:description>General Electric Company 2004</dc:description>
  <cp:keywords>September 22 2004 – Version 1.1</cp:keywords>
  <dc:language>en-US</dc:language>
  <cp:lastModifiedBy>ritus</cp:lastModifiedBy>
  <cp:lastPrinted>2003-08-29T14:38:12Z</cp:lastPrinted>
  <dcterms:modified xsi:type="dcterms:W3CDTF">2012-03-02T07:22:53Z</dcterms:modified>
  <cp:revision>35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alette">
    <vt:lpwstr>GE Template</vt:lpwstr>
  </property>
</Properties>
</file>