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pic>
        <p:nvPicPr>
          <p:cNvPr id="2" name="Picture 14" descr=""/>
          <p:cNvPicPr/>
          <p:nvPr/>
        </p:nvPicPr>
        <p:blipFill>
          <a:blip r:embed="rId2"/>
          <a:stretch/>
        </p:blipFill>
        <p:spPr>
          <a:xfrm>
            <a:off x="318960" y="608328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3" name="Text Box 18"/>
          <p:cNvSpPr/>
          <p:nvPr/>
        </p:nvSpPr>
        <p:spPr>
          <a:xfrm>
            <a:off x="6442200" y="6229440"/>
            <a:ext cx="24555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9151-11F8-4386-B19A-F30719559143}" type="slidenum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&lt;number&gt;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 </a:t>
            </a: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Presenter and Event</a:t>
            </a:r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D719-5FB0-4E8E-98E0-51C5856FC845}" type="datetime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07/29/26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1" descr=""/>
          <p:cNvPicPr/>
          <p:nvPr/>
        </p:nvPicPr>
        <p:blipFill>
          <a:blip r:embed="rId2"/>
          <a:stretch/>
        </p:blipFill>
        <p:spPr>
          <a:xfrm>
            <a:off x="272880" y="5803920"/>
            <a:ext cx="2486160" cy="781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</a:t>
            </a:r>
            <a:br>
              <a:rPr sz="4000"/>
            </a:b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Annotation Definition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"/>
          <p:cNvGrpSpPr/>
          <p:nvPr/>
        </p:nvGrpSpPr>
        <p:grpSpPr>
          <a:xfrm>
            <a:off x="25560" y="382680"/>
            <a:ext cx="9118440" cy="6218280"/>
            <a:chOff x="25560" y="382680"/>
            <a:chExt cx="9118440" cy="6218280"/>
          </a:xfrm>
        </p:grpSpPr>
        <p:sp>
          <p:nvSpPr>
            <p:cNvPr id="123" name="Rectangle 4"/>
            <p:cNvSpPr/>
            <p:nvPr/>
          </p:nvSpPr>
          <p:spPr>
            <a:xfrm>
              <a:off x="111240" y="442800"/>
              <a:ext cx="502920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Plan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>
              <a:off x="5140440" y="442800"/>
              <a:ext cx="375264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AzoomFacto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currentFL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ROT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viewFilter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2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3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4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5 – AMT8 (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6 – AVL1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7 – AVL2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8 – AVL3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9 - AVL4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111240" y="3678120"/>
              <a:ext cx="502920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A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Thk + A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Thick_Spac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 +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5140440" y="3678120"/>
              <a:ext cx="375264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4459320" y="63547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8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7423200" y="355608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0" name="Text Box 11"/>
            <p:cNvSpPr/>
            <p:nvPr/>
          </p:nvSpPr>
          <p:spPr>
            <a:xfrm>
              <a:off x="25560" y="354024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31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hick_Spac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34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25560" y="382680"/>
            <a:ext cx="9118440" cy="5762520"/>
            <a:chOff x="25560" y="382680"/>
            <a:chExt cx="9118440" cy="5762520"/>
          </a:xfrm>
        </p:grpSpPr>
        <p:sp>
          <p:nvSpPr>
            <p:cNvPr id="136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ConvolutionKern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SpecialReconAlgorithm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ImageHeigh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EkgGatingType  + 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Material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SmartMamp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S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SlThick + A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GanTil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ScanOptions 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3865680" y="5289840"/>
              <a:ext cx="2260440" cy="85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3 - ASub_Optimall_Q_String or imageCheck_flag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2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44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"/>
          <p:cNvGrpSpPr/>
          <p:nvPr/>
        </p:nvGrpSpPr>
        <p:grpSpPr>
          <a:xfrm>
            <a:off x="25560" y="382680"/>
            <a:ext cx="9118440" cy="5747040"/>
            <a:chOff x="25560" y="382680"/>
            <a:chExt cx="9118440" cy="5747040"/>
          </a:xfrm>
        </p:grpSpPr>
        <p:sp>
          <p:nvSpPr>
            <p:cNvPr id="149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(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mageDims(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Scan_Parameter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zimuth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3865680" y="5883480"/>
              <a:ext cx="2260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4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57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Scou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Scou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76320" y="581040"/>
          <a:ext cx="3303720" cy="451800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60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"/>
          <p:cNvGrpSpPr/>
          <p:nvPr/>
        </p:nvGrpSpPr>
        <p:grpSpPr>
          <a:xfrm>
            <a:off x="25560" y="442800"/>
            <a:ext cx="9118440" cy="5688360"/>
            <a:chOff x="25560" y="442800"/>
            <a:chExt cx="9118440" cy="5688360"/>
          </a:xfrm>
        </p:grpSpPr>
        <p:sp>
          <p:nvSpPr>
            <p:cNvPr id="162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erie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econAlg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TimeOfDay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Ti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(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bin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i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ax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5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imeFromInje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384800" y="58849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442040" y="45360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0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P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6320" y="581040"/>
          <a:ext cx="3303720" cy="52354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75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qDate + dispAcqTim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qInfo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Name + disp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cessionNu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tud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Hospital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Hospital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ientDose + dispDoseProdu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TubeCurrent + dispKvp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ExposureMs + dispExposureMa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UnCompDetExposure + CompDetExposur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etExposureIndex  + DetExposureRan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RAClassifica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RRA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Type + dispEd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Date + dispProcessing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Laterality + dispAnatomicalView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natom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SliceHeight + dispSliceInterval + dispSamplingFacto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5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4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3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2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1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WindowWidth + dispWindowLevel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Zoo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9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DX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DX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76320" y="581040"/>
          <a:ext cx="3303720" cy="308304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os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q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roess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Measuremen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Param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natom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tud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Image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RA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3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84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LongPatient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– APhysician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Id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rocedure_Protocol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Comments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cessionNumb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cession_Number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x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Hosp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Ti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kvol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urren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m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Index / numFrames  [NAT|SUB] 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Width  + AWindowCenter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XA,RF,C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XA, RF, C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76320" y="581040"/>
          <a:ext cx="3303720" cy="28432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91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Backup Material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0120"/>
            <a:ext cx="9144000" cy="5025960"/>
            <a:chOff x="0" y="600120"/>
            <a:chExt cx="9144000" cy="5025960"/>
          </a:xfrm>
        </p:grpSpPr>
        <p:sp>
          <p:nvSpPr>
            <p:cNvPr id="194" name="Rectangle 3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lice loc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im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d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5" name="Rectangle 4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- cardiacRecon OR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6" name="Rectangle 5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+ render mod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8" name="Text Box 7"/>
            <p:cNvSpPr/>
            <p:nvPr/>
          </p:nvSpPr>
          <p:spPr>
            <a:xfrm>
              <a:off x="3957480" y="5227560"/>
              <a:ext cx="19670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not for diagnosis ms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9" name="Text Box 8"/>
            <p:cNvSpPr/>
            <p:nvPr/>
          </p:nvSpPr>
          <p:spPr>
            <a:xfrm>
              <a:off x="4046400" y="7239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7423200" y="29973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0" y="301140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02" name="Text Box 11"/>
          <p:cNvSpPr/>
          <p:nvPr/>
        </p:nvSpPr>
        <p:spPr>
          <a:xfrm>
            <a:off x="89280" y="96840"/>
            <a:ext cx="33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GSI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0"/>
          <p:cNvSpPr/>
          <p:nvPr/>
        </p:nvSpPr>
        <p:spPr>
          <a:xfrm>
            <a:off x="109080" y="9684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DMPR1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04" name="Group 20"/>
          <p:cNvGrpSpPr/>
          <p:nvPr/>
        </p:nvGrpSpPr>
        <p:grpSpPr>
          <a:xfrm>
            <a:off x="0" y="685800"/>
            <a:ext cx="9144000" cy="5322960"/>
            <a:chOff x="0" y="685800"/>
            <a:chExt cx="9144000" cy="5322960"/>
          </a:xfrm>
        </p:grpSpPr>
        <p:sp>
          <p:nvSpPr>
            <p:cNvPr id="205" name="Rectangle 11"/>
            <p:cNvSpPr/>
            <p:nvPr/>
          </p:nvSpPr>
          <p:spPr>
            <a:xfrm>
              <a:off x="209520" y="685800"/>
              <a:ext cx="45561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avViewType (ESI 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ModelName + " SYS#" + stationName (System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vavImageLocation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- vavRender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reconflag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- vavAcquisitionStatus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0 - avgHeartRate (ScanBottom) OR reportPixel_R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- rPeakDelay (ScanBottom) OR reportPixel_A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- reportPixel_S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- reportPixel_V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4757760" y="685800"/>
              <a:ext cx="413532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Accession Number (Acc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patid (Patient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zoomFactor (ViewParameters) OR cardiacRecon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8 - Flip position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9 - Rotation Angle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0 - filter + GSE (Image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209520" y="3348000"/>
              <a:ext cx="454824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- vavImageThickness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kv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ma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noiseIndex + SmartMA + npAutomA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fov + sfov typ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slice thickness + table speed + helical scan 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rotationtime + acq_datetime + deltastart + tempResolution (ScanTimeOfDa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8" name="Rectangle 14"/>
            <p:cNvSpPr/>
            <p:nvPr/>
          </p:nvSpPr>
          <p:spPr>
            <a:xfrm>
              <a:off x="4757760" y="3348000"/>
              <a:ext cx="413532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GraphicAnnotation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4184640" y="5751360"/>
              <a:ext cx="1789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0" name="Text Box 16"/>
            <p:cNvSpPr/>
            <p:nvPr/>
          </p:nvSpPr>
          <p:spPr>
            <a:xfrm>
              <a:off x="4046400" y="817560"/>
              <a:ext cx="1694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1" name="Text Box 17"/>
            <p:cNvSpPr/>
            <p:nvPr/>
          </p:nvSpPr>
          <p:spPr>
            <a:xfrm>
              <a:off x="7451640" y="3254400"/>
              <a:ext cx="169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1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0" y="3271680"/>
              <a:ext cx="1700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1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68400" y="9684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158760" y="714240"/>
            <a:ext cx="8985240" cy="5112000"/>
            <a:chOff x="158760" y="714240"/>
            <a:chExt cx="8985240" cy="5112000"/>
          </a:xfrm>
        </p:grpSpPr>
        <p:sp>
          <p:nvSpPr>
            <p:cNvPr id="21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sliceLocation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PatientID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4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5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6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lice thickness / Render Mod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k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ma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rotationtime + deltastar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pitch / slice spacin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acq_date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0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9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9" name="Text Box 16"/>
            <p:cNvSpPr/>
            <p:nvPr/>
          </p:nvSpPr>
          <p:spPr>
            <a:xfrm>
              <a:off x="4214880" y="5440320"/>
              <a:ext cx="1814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0" name="Text Box 17"/>
            <p:cNvSpPr/>
            <p:nvPr/>
          </p:nvSpPr>
          <p:spPr>
            <a:xfrm>
              <a:off x="4135320" y="722160"/>
              <a:ext cx="16495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1" name="Text Box 18"/>
            <p:cNvSpPr/>
            <p:nvPr/>
          </p:nvSpPr>
          <p:spPr>
            <a:xfrm>
              <a:off x="7369200" y="3078000"/>
              <a:ext cx="1774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2" name="Text Box 19"/>
            <p:cNvSpPr/>
            <p:nvPr/>
          </p:nvSpPr>
          <p:spPr>
            <a:xfrm>
              <a:off x="158760" y="3092400"/>
              <a:ext cx="1668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040" y="96840"/>
            <a:ext cx="40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24" name="Group 21"/>
          <p:cNvGrpSpPr/>
          <p:nvPr/>
        </p:nvGrpSpPr>
        <p:grpSpPr>
          <a:xfrm>
            <a:off x="158760" y="714240"/>
            <a:ext cx="8985240" cy="5113800"/>
            <a:chOff x="158760" y="714240"/>
            <a:chExt cx="8985240" cy="5113800"/>
          </a:xfrm>
        </p:grpSpPr>
        <p:sp>
          <p:nvSpPr>
            <p:cNvPr id="22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Im #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- sliceLocation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11 - E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DoB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5 - ??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1 – acquisition matrix / NE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scan 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– slice thickness /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 Render Mod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8 – DFOV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Coil 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EC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T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TR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model 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imaging options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4135320" y="5581800"/>
              <a:ext cx="2016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3824280" y="722160"/>
              <a:ext cx="20779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1" name="Text Box 18"/>
            <p:cNvSpPr/>
            <p:nvPr/>
          </p:nvSpPr>
          <p:spPr>
            <a:xfrm>
              <a:off x="7219800" y="3078000"/>
              <a:ext cx="1924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158760" y="3092400"/>
              <a:ext cx="1917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33" name="Rectangle 1"/>
          <p:cNvSpPr/>
          <p:nvPr/>
        </p:nvSpPr>
        <p:spPr>
          <a:xfrm>
            <a:off x="3557880" y="597528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– partial annotation items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191"/>
                </a:solidFill>
                <a:latin typeface="Times New Roman"/>
              </a:rPr>
              <a:t>Bold Annotations </a:t>
            </a:r>
            <a:r>
              <a:rPr b="0" lang="en-US" sz="1800" spc="-1" strike="noStrike">
                <a:solidFill>
                  <a:srgbClr val="1e4191"/>
                </a:solidFill>
                <a:latin typeface="Times New Roman"/>
              </a:rPr>
              <a:t>- active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"/>
          <p:cNvGrpSpPr/>
          <p:nvPr/>
        </p:nvGrpSpPr>
        <p:grpSpPr>
          <a:xfrm>
            <a:off x="0" y="600120"/>
            <a:ext cx="9144000" cy="4974120"/>
            <a:chOff x="0" y="600120"/>
            <a:chExt cx="9144000" cy="4974120"/>
          </a:xfrm>
        </p:grpSpPr>
        <p:sp>
          <p:nvSpPr>
            <p:cNvPr id="82" name="Rectangle 4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3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cardiacRecon +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4" name="Rectangle 6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+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5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3776400" y="5328000"/>
              <a:ext cx="195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4046400" y="601560"/>
              <a:ext cx="1819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7291440" y="2997360"/>
              <a:ext cx="18525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0" y="3011400"/>
              <a:ext cx="1793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90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76320" y="581040"/>
          <a:ext cx="3303720" cy="47577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9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98280" y="600120"/>
            <a:ext cx="9045720" cy="4974120"/>
            <a:chOff x="98280" y="600120"/>
            <a:chExt cx="9045720" cy="4974120"/>
          </a:xfrm>
        </p:grpSpPr>
        <p:sp>
          <p:nvSpPr>
            <p:cNvPr id="95" name="Rectangle 4"/>
            <p:cNvSpPr/>
            <p:nvPr/>
          </p:nvSpPr>
          <p:spPr>
            <a:xfrm>
              <a:off x="20916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6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can Time Of Day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20916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  +  render mode 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kvol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framebi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window width2 + window level2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**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8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TimeFromInject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 (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- Wmin + Wmax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3902040" y="5328000"/>
              <a:ext cx="19760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0" name="Text Box 9"/>
            <p:cNvSpPr/>
            <p:nvPr/>
          </p:nvSpPr>
          <p:spPr>
            <a:xfrm>
              <a:off x="4046400" y="601560"/>
              <a:ext cx="1831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7243920" y="2959200"/>
              <a:ext cx="1900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98280" y="2975040"/>
              <a:ext cx="1872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03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PE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2078280" y="5861160"/>
            <a:ext cx="49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** Only in CT-PT fused view for second layer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0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109" name="Group 1"/>
          <p:cNvGrpSpPr/>
          <p:nvPr/>
        </p:nvGrpSpPr>
        <p:grpSpPr>
          <a:xfrm>
            <a:off x="42840" y="441360"/>
            <a:ext cx="9118800" cy="6218280"/>
            <a:chOff x="42840" y="441360"/>
            <a:chExt cx="9118800" cy="6218280"/>
          </a:xfrm>
        </p:grpSpPr>
        <p:sp>
          <p:nvSpPr>
            <p:cNvPr id="110" name="Rectangle 4"/>
            <p:cNvSpPr/>
            <p:nvPr/>
          </p:nvSpPr>
          <p:spPr>
            <a:xfrm>
              <a:off x="128520" y="501480"/>
              <a:ext cx="50292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erty)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– Slice Location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AIm +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Contast 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NW 6 -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1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2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157720" y="501480"/>
              <a:ext cx="37530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128520" y="3737880"/>
              <a:ext cx="50292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9 - slice thickness /spacing  + 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 +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5157720" y="3737880"/>
              <a:ext cx="37530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4482360" y="6259680"/>
              <a:ext cx="11844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5" name="Text Box 9"/>
            <p:cNvSpPr/>
            <p:nvPr/>
          </p:nvSpPr>
          <p:spPr>
            <a:xfrm>
              <a:off x="4315680" y="4413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7326360" y="3615480"/>
              <a:ext cx="1835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7" name="Text Box 11"/>
            <p:cNvSpPr/>
            <p:nvPr/>
          </p:nvSpPr>
          <p:spPr>
            <a:xfrm>
              <a:off x="42840" y="3599640"/>
              <a:ext cx="190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6320" y="676440"/>
          <a:ext cx="3303720" cy="47559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2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08:52:22Z</dcterms:created>
  <dc:creator>Authorized User</dc:creator>
  <dc:description>General Electric Company 2004</dc:description>
  <cp:keywords>September 22 2004 – Version 1.1</cp:keywords>
  <dc:language>en-US</dc:language>
  <cp:lastModifiedBy>ritus</cp:lastModifiedBy>
  <cp:lastPrinted>2003-08-29T14:38:12Z</cp:lastPrinted>
  <dcterms:modified xsi:type="dcterms:W3CDTF">2012-03-02T07:22:53Z</dcterms:modified>
  <cp:revision>3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alette">
    <vt:lpwstr>GE Template</vt:lpwstr>
  </property>
</Properties>
</file>