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1CCD-1829-439A-91A2-52AD04997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я метафора: Люди не меняю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025-DDD3-4949-93CF-BF17666EF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3267-ECA9-4E60-964B-59D545AF46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9F9D-C51B-41EC-8D9F-94226A9DA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я история о папе, пример нелогичной связ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E5EF-A7AD-41E8-B963-A4428FC39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й Каваса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Guy Kawasak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одился 30 августа 1954 года в Гонолулу, Гавайи) — один из первых работников компании Apple Computer, ответственный за маркетинг компьютера Macintosh в 1984 году. Он известен тем, что перенёс концепцию «евангелизма» в высокотехнологичный бизнес, фокусируясь на создании слоя пользователей — горячих приверженцев бренда Ap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875C-5617-4C87-96B2-EB8F90091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 телес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 глубоких вдохов-выдох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ох – до конца, вжать в себя промежность – нижнюю чак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ться, пока не будет крит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дохнуть пол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кратное 3 количество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AA0C-2BB0-4C50-A03A-FAA04FCC20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а о петухе и зерныш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D66F-020B-4DF9-941B-D5C994035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107B-9FA3-4741-A5C5-29DA87610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с откры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A0C5-CA89-4ED4-8547-7C5FA32FF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611C-FE32-40F3-9D03-D7AFAA408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е с открыт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8A47-B2FE-4077-A04F-70378C1F6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любишь себя – любая дрянь на польз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орректировать свои новые убеждения в соответствии с прав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75E2-4FE2-43FD-92AA-A0457263F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99F6-9900-41B2-A5E2-01A59603B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любишь себя – любая дрянь на польз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745B-0A0D-41CA-9BB1-E8493CFF27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9162-6792-457B-95EC-0B22C8154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CBBE-9CB4-4DA5-8CFB-11550EA67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DA99-BC2A-4D55-87A1-20AF333AF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CC96-75D4-4DDD-BC1F-FC5142832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0FB-D44C-4D68-9C79-B95FFDA3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602-3C70-4522-835C-D068E00A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78B-916D-4D27-BE24-3BFA7E3BC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E4B-B04D-42AE-A92F-F0BB89D2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2436-6854-40FF-9B9F-0162426F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2617-CBDA-4F9F-92CD-5567EA6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059E-A169-4A38-B349-8166135F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D6EE-4C7A-4B2E-BC2C-07B70C2C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3DD0-83B6-41E7-92C7-75D4A905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108E-2BB0-4DDD-A1B2-51F141AA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9EF2-8B5B-4977-9DCE-AFB72820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6BDF-B2F1-47DD-98FD-C6F0ED03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8289-D31A-4581-A362-2B3DEC4C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5A05-2E43-4507-A276-ADB7E4B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7A07-6411-4CBA-81E1-3D8251D4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B015-E7C8-4E5A-AA12-D6D244AB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B8DD-A03D-4FB4-A7DE-1357440C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7C71-7227-4C2F-8FFE-6A962C7D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557-377F-4DCA-B06A-D5D10E06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B06-9F7B-453A-A3E8-106F35DD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E005-CE13-4C75-B674-3F67FEB3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4ED0-13F0-44E0-BA6B-BB07611D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29F-0433-4B5E-99AA-D151B57F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29C-5CA4-4329-B77F-AD751843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C133-EE0F-4691-B0F6-D22F7B0CC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FB9-5F6F-48E1-AF0D-5D9E440C4938}" type="slidenum">
              <a:rPr b="0" lang="en-US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Оздоравливаем  мысли: работа с убеждения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4.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анализ/опровержение неадекватных убеждений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 вы можете опровергнуть эти убеждения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рассуждения будут конструктивными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Используйте для их построения позитивные убеждения (все люди свободны; все люди сами отвечают за свою жизнь; все люди автономн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4 мину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5: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выводы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ресурсные переживания и планируемое поведение завершают ситуац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 вы намерены себя вести, чтобы завершить ситуац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переживания это вызывае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3 мину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alibri"/>
              </a:rPr>
              <a:t>Если Вы определили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alibri"/>
              </a:rPr>
              <a:t>что это вообще какие-то левые мысли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alibri"/>
              </a:rPr>
              <a:t>непонятно откуда зашедшие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alibri"/>
              </a:rPr>
              <a:t>что дела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ай Кавасаки: Не дайте разным бозо себя замучи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838080" y="1566720"/>
            <a:ext cx="75438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нтра: «Это – чужие мысли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то – чужие мысл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087560" y="1143000"/>
            <a:ext cx="7086600" cy="3429000"/>
          </a:xfrm>
          <a:prstGeom prst="rect">
            <a:avLst/>
          </a:prstGeom>
          <a:ln w="0">
            <a:noFill/>
          </a:ln>
        </p:spPr>
      </p:pic>
      <p:sp>
        <p:nvSpPr>
          <p:cNvPr id="121" name="Title 1"/>
          <p:cNvSpPr/>
          <p:nvPr/>
        </p:nvSpPr>
        <p:spPr>
          <a:xfrm>
            <a:off x="51588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силивает или ослабля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важно знать об убеждениях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Сами не уйду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Только осознанное действие принесет  измен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2. Свято место пусто не бывае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Освободили пространство от негативных убеждений – заполните его позитивными, усиливающим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4"/>
          <p:cNvSpPr/>
          <p:nvPr/>
        </p:nvSpPr>
        <p:spPr>
          <a:xfrm rot="10800000">
            <a:off x="1187280" y="914400"/>
            <a:ext cx="5875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ИР (друг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28920" y="1631880"/>
            <a:ext cx="235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МИР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Group 30"/>
          <p:cNvGrpSpPr/>
          <p:nvPr/>
        </p:nvGrpSpPr>
        <p:grpSpPr>
          <a:xfrm>
            <a:off x="2135160" y="898200"/>
            <a:ext cx="5584680" cy="4649760"/>
            <a:chOff x="2135160" y="898200"/>
            <a:chExt cx="5584680" cy="4649760"/>
          </a:xfrm>
        </p:grpSpPr>
        <p:sp>
          <p:nvSpPr>
            <p:cNvPr id="127" name="Line 31"/>
            <p:cNvSpPr/>
            <p:nvPr/>
          </p:nvSpPr>
          <p:spPr>
            <a:xfrm>
              <a:off x="2135160" y="5543640"/>
              <a:ext cx="5584680" cy="3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2135160" y="898560"/>
              <a:ext cx="55846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 flipV="1">
              <a:off x="2135160" y="902160"/>
              <a:ext cx="0" cy="4645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 flipV="1">
              <a:off x="7719840" y="898200"/>
              <a:ext cx="0" cy="4645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 flipV="1">
              <a:off x="4927320" y="902160"/>
              <a:ext cx="0" cy="46458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2135160" y="3225600"/>
              <a:ext cx="55846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 Box 25"/>
          <p:cNvSpPr/>
          <p:nvPr/>
        </p:nvSpPr>
        <p:spPr>
          <a:xfrm>
            <a:off x="5181480" y="1762200"/>
            <a:ext cx="2352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МИР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286000" y="3900600"/>
            <a:ext cx="235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МИР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5181480" y="3900600"/>
            <a:ext cx="2352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МИР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2171880" y="5560920"/>
            <a:ext cx="55846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바탕"/>
              </a:rPr>
              <a:t>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Возьмите «чужое» убеждение, которое вы обнаружили вче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2.  Скажите: «Это – чужая мысль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3. Создайте убеждение, которое будет полезным для ва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пражнение с открыт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33814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Выберите открытку, которая очень приятна для ва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Выберите открытку, которая максимально неприятна для в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467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накомств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ontent Placeholder 8"/>
          <p:cNvSpPr/>
          <p:nvPr/>
        </p:nvSpPr>
        <p:spPr>
          <a:xfrm>
            <a:off x="762120" y="129528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Им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Убеждение, которое Вы хотите сегодня  встроить в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Моя сегодняшняя энергия – это 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пражнение с открыт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Опишите вашему партнеру, какие чувства и мысли вызывает в вас каждая из открыто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Расскажите о себе от каждой открытки (Если бы я был открыткой, то я бы сказал, что Ира ….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Что хорошего хочет для меня каждая из открыток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Calibri"/>
              </a:rPr>
              <a:t>Что даёт мне эта мысль? Какую пользу она может принест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с убеждени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ПНБ1"/>
          <p:cNvPicPr/>
          <p:nvPr/>
        </p:nvPicPr>
        <p:blipFill>
          <a:blip r:embed="rId1"/>
          <a:stretch/>
        </p:blipFill>
        <p:spPr>
          <a:xfrm>
            <a:off x="900000" y="3716280"/>
            <a:ext cx="6610320" cy="226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ПНБ2"/>
          <p:cNvPicPr/>
          <p:nvPr/>
        </p:nvPicPr>
        <p:blipFill>
          <a:blip r:embed="rId2"/>
          <a:stretch/>
        </p:blipFill>
        <p:spPr>
          <a:xfrm>
            <a:off x="3924360" y="1268280"/>
            <a:ext cx="45450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7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ика «4 сту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Выберите в пространстве 4 точки (можно задействовать 4 стула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- цель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– </a:t>
            </a:r>
            <a:r>
              <a:rPr b="0" lang="ru-RU" sz="2700" spc="-1" strike="noStrike">
                <a:solidFill>
                  <a:srgbClr val="262626"/>
                </a:solidFill>
                <a:latin typeface="Calibri"/>
              </a:rPr>
              <a:t>желаемый результат или действ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- </a:t>
            </a: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отмазка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– </a:t>
            </a:r>
            <a:r>
              <a:rPr b="0" lang="ru-RU" sz="2700" spc="-1" strike="noStrike">
                <a:solidFill>
                  <a:srgbClr val="262626"/>
                </a:solidFill>
                <a:latin typeface="Calibri"/>
              </a:rPr>
              <a:t>установка, которая  мешает, препятствует достижению цел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- мотивация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– </a:t>
            </a:r>
            <a:r>
              <a:rPr b="0" lang="ru-RU" sz="2700" spc="-1" strike="noStrike">
                <a:solidFill>
                  <a:srgbClr val="262626"/>
                </a:solidFill>
                <a:latin typeface="Calibri"/>
              </a:rPr>
              <a:t>что важнее отмазки, почему все-таки стану это делат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1" i="1" lang="ru-RU" sz="2700" spc="-1" strike="noStrike">
                <a:solidFill>
                  <a:srgbClr val="262626"/>
                </a:solidFill>
                <a:latin typeface="Calibri"/>
              </a:rPr>
              <a:t>- ценность</a:t>
            </a: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 - </a:t>
            </a:r>
            <a:r>
              <a:rPr b="0" lang="ru-RU" sz="2700" spc="-1" strike="noStrike">
                <a:solidFill>
                  <a:srgbClr val="262626"/>
                </a:solidFill>
                <a:latin typeface="Calibri"/>
              </a:rPr>
              <a:t>что еще больше и важнее, чем мотиваци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7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хника «4 сту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2.  Поэтапно проходим все 4 точк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 – формулируем цель, проверяем экологию (представь, что ты ее уже достиг, все ли тебя устраивает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Отмазка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 – перечисляем все установки и препятствия, внутренние и внеш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Мотивация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 – ищем позитивную («к») и негативную («от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Ценность</a:t>
            </a: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 – добавляем ценности, определяя, что тогда становится  возможным для теб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262626"/>
                </a:solidFill>
                <a:latin typeface="Calibri"/>
              </a:rPr>
              <a:t>3. Из точки ценности создаем установку, которая будет способствовать достижению цел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7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жедневная поддерживающая практи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Представьте желаемое Будущее через 2 года. Смотрите со стороны (диссоциирован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2.    Пойти в это Будущее и прожить его как Настоящее (ассоциированн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alibri"/>
              </a:rPr>
              <a:t>3.    Посмотреть из точки Будущего на Настоящее, как на Прошло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А</a:t>
            </a:r>
            <a:r>
              <a:rPr b="0" lang="uk-UA" sz="2400" spc="-1" strike="noStrike">
                <a:solidFill>
                  <a:srgbClr val="262626"/>
                </a:solidFill>
                <a:latin typeface="Calibri"/>
              </a:rPr>
              <a:t>) дать любой сове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Calibri"/>
              </a:rPr>
              <a:t>Б) сказать, во что лучше верить, какую установку тренирова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62626"/>
                </a:solidFill>
                <a:latin typeface="Calibri"/>
              </a:rPr>
              <a:t>В) что делать/не дел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5504040" y="388620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3"/>
          <a:stretch/>
        </p:blipFill>
        <p:spPr>
          <a:xfrm>
            <a:off x="533520" y="3375000"/>
            <a:ext cx="2404800" cy="2716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4"/>
          <a:stretch/>
        </p:blipFill>
        <p:spPr>
          <a:xfrm>
            <a:off x="6400800" y="528480"/>
            <a:ext cx="2362320" cy="3057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5"/>
          <a:stretch/>
        </p:blipFill>
        <p:spPr>
          <a:xfrm>
            <a:off x="152280" y="0"/>
            <a:ext cx="25909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62626"/>
                </a:solidFill>
                <a:latin typeface="Calibri"/>
              </a:rPr>
              <a:t>Иногда ход нашей мысли результирует в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262626"/>
                </a:solidFill>
                <a:latin typeface="Calibri"/>
              </a:rPr>
              <a:t>«Лучше предать самого себя, чем столкнуться </a:t>
            </a:r>
            <a:r>
              <a:rPr b="1" lang="ru-RU" sz="4000" spc="-1" strike="noStrike">
                <a:solidFill>
                  <a:srgbClr val="262626"/>
                </a:solidFill>
                <a:latin typeface="Calibri"/>
              </a:rPr>
              <a:t>лицом к лицу с собственным величие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alibri"/>
              </a:rPr>
              <a:t>Джеймс Холл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ontent Placeholder 4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471920" cy="4876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5005440" y="838080"/>
            <a:ext cx="360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ри Плейе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южноафриканский игрок в гольф , один из величайших гольфистов в истории. Единственный спортсмен, который выигрывал открытый кубок Британии по гольфу на протяжении трех десятилет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авила построения убеж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Присутствует слово «Я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Цепляет, вдохновляет, заряжает, приятна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Сформулировано позитивным языком (и противоположно негативному убежден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Максимально коротко сформулирова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Сформулировано в настоящем времени – так, как будто это уже есть, уже в вас встроен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alibri"/>
              </a:rPr>
              <a:t>Развивает, даёт большее позволение (с каждым днём всё больше и больше…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льберт Эллис (1913-200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512px-Albert_Ellis_2003_seated"/>
          <p:cNvPicPr/>
          <p:nvPr/>
        </p:nvPicPr>
        <p:blipFill>
          <a:blip r:embed="rId1"/>
          <a:stretch/>
        </p:blipFill>
        <p:spPr>
          <a:xfrm>
            <a:off x="914400" y="160020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464832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мериканский психолог и когнитивный терапевт, автор рационально-эмоциональной поведенческой терап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атривал негативные эмоции и дисфункциональные поведенческие реакции, как следствие интерпретации этого опыта, т.е. как результат неверных когнитивных установок — иррациональных верован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анализ (А. Эллис, 1950е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А – инициирующее собы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убеждения (внутренний диалог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C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следств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D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анализ неадекватных убежд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E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выво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action_reaction_tshirt-p235766833012404303y8xo_400"/>
          <p:cNvPicPr/>
          <p:nvPr/>
        </p:nvPicPr>
        <p:blipFill>
          <a:blip r:embed="rId1"/>
          <a:stretch/>
        </p:blipFill>
        <p:spPr>
          <a:xfrm>
            <a:off x="6629400" y="3809880"/>
            <a:ext cx="23018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60000"/>
              </a:lnSpc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3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1: А – инициирующее событие: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Что произошло; что вызвало вашу реакцию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2: </a:t>
            </a:r>
            <a:r>
              <a:rPr b="1" lang="en-US" sz="2200" spc="-1" strike="noStrike">
                <a:solidFill>
                  <a:srgbClr val="262626"/>
                </a:solidFill>
                <a:latin typeface="Calibri"/>
              </a:rPr>
              <a:t>C</a:t>
            </a: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 – следствие: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Какие негативные эмоции Вы ощущали? Ваше неконструктивное поведение на это событие. Что вы делали и что переживали в ответ на событие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3: </a:t>
            </a:r>
            <a:r>
              <a:rPr b="1" lang="en-US" sz="2200" spc="-1" strike="noStrike">
                <a:solidFill>
                  <a:srgbClr val="262626"/>
                </a:solidFill>
                <a:latin typeface="Calibri"/>
              </a:rPr>
              <a:t>B</a:t>
            </a: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 – убеждения (внутренний диалог)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Какие Ваши мысли и убеждения послужили основанием для этой реакции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4. </a:t>
            </a:r>
            <a:r>
              <a:rPr b="1" lang="en-US" sz="2200" spc="-1" strike="noStrike">
                <a:solidFill>
                  <a:srgbClr val="262626"/>
                </a:solidFill>
                <a:latin typeface="Calibri"/>
              </a:rPr>
              <a:t>D</a:t>
            </a: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 – анализ/опровержение неадекватных убеждений: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Как вы можете опровергнуть эти убеждения? Какие рассуждения будут конструктивными?  Используйте для их построения позитивные убеждения (все люди свободны; все люди сами отвечают за свою жизнь; все люди автономны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6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Шаг 5: </a:t>
            </a:r>
            <a:r>
              <a:rPr b="1" lang="en-US" sz="2200" spc="-1" strike="noStrike">
                <a:solidFill>
                  <a:srgbClr val="262626"/>
                </a:solidFill>
                <a:latin typeface="Calibri"/>
              </a:rPr>
              <a:t>E</a:t>
            </a:r>
            <a:r>
              <a:rPr b="1" lang="ru-RU" sz="2200" spc="-1" strike="noStrike">
                <a:solidFill>
                  <a:srgbClr val="262626"/>
                </a:solidFill>
                <a:latin typeface="Calibri"/>
              </a:rPr>
              <a:t> – выводы: </a:t>
            </a: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Ресурсные переживания и поведение, завершающие ситуацию. Как вы намерены себя вести, чтобы завершить ситуацию. Какие переживания это вызывает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1: А – инициирующее событ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Что произошл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Что вызвало вашу реакцию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1 мину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2: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C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следств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негативные эмоции Вы ощущал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м было Ваше неконструктивное поведение на это событ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Что вы делали и что переживали в ответ на событи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3 мину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хника изменения своей 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9144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Шаг 3: </a:t>
            </a:r>
            <a:r>
              <a:rPr b="1" lang="en-US" sz="3200" spc="-1" strike="noStrike">
                <a:solidFill>
                  <a:srgbClr val="262626"/>
                </a:solidFill>
                <a:latin typeface="Calibri"/>
              </a:rPr>
              <a:t>B</a:t>
            </a: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– убеждения (внутренний диалог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Какие Ваши мысли и убеждения послужили основанием для этой реак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alibri"/>
              </a:rPr>
              <a:t>3 мину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8:22:37Z</dcterms:created>
  <dc:creator>Yury Shilyaev</dc:creator>
  <dc:description/>
  <dc:language>en-US</dc:language>
  <cp:lastModifiedBy>nti</cp:lastModifiedBy>
  <dcterms:modified xsi:type="dcterms:W3CDTF">2013-07-30T09:38:10Z</dcterms:modified>
  <cp:revision>98</cp:revision>
  <dc:subject/>
  <dc:title>Mentoring Programs</dc:title>
</cp:coreProperties>
</file>